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C74F-FE4E-4C23-B2E4-6B89D584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C72D-41F4-487E-BD5F-0BDA8E4B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A692-F2AA-40A4-8ECB-78D4217E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1B99-E335-4142-A958-265D8005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C464-4F96-4F1F-A3B8-E250A766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89BA-D5E0-4206-8156-BFFA991C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C3A2-655A-4DE4-8199-60F189FB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6236-D438-49E0-A917-11821C7B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BDCC-2B31-4C91-A94A-9BAE4D5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E488-A8CF-4457-9259-DB40086A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7A9B-16F5-4D95-9DA9-45AF368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6054-6F7F-46C4-AAAC-F794636A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7AD6-1CCD-40F5-AF0E-3204686B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894B-7FD2-4D69-BDA4-8CE214A0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2EA5-CFDE-4643-93D3-43867AFC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36F8-6838-447C-8D41-B7B41A10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F1E7-A159-4AA1-81D8-BDB5AFCE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D240-7A7E-4377-9A4C-D42878F7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EFFA-A37C-4BC0-A7DA-2B763051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D0BE1-DA58-426D-AECC-927192D6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BC06-B28E-402A-BD35-07CB069D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6BA7-3572-40F2-BA2D-53E82DF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8F40-F2DF-475D-9448-85A471F7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09A7-DDE0-4F5E-A022-6A57BA0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3B98-A214-485F-9EDD-A33B75B3C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DC06-ECF4-4C7E-AF37-3589DCB35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venn diagrams to find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916280"/>
            <a:ext cx="41749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50 people in a yea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study Geography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 study History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ddition, 5 study both history and geograp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2205000"/>
            <a:ext cx="316872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3860640"/>
            <a:ext cx="2879640" cy="642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universal” set of all people/all possible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2492280"/>
            <a:ext cx="136836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220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2781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565360"/>
            <a:ext cx="122400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2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2781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2781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8508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venn diagrams to find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773360"/>
            <a:ext cx="2016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H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G´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∩ G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(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υ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H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1700280"/>
            <a:ext cx="324036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G ∩ H´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G´ ∩ H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H u G´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H´ ∩ G´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03280" y="3357720"/>
            <a:ext cx="2664000" cy="865080"/>
            <a:chOff x="1403280" y="3357720"/>
            <a:chExt cx="2664000" cy="865080"/>
          </a:xfrm>
        </p:grpSpPr>
        <p:sp>
          <p:nvSpPr>
            <p:cNvPr id="121" name=""/>
            <p:cNvSpPr/>
            <p:nvPr/>
          </p:nvSpPr>
          <p:spPr>
            <a:xfrm>
              <a:off x="1403280" y="3357720"/>
              <a:ext cx="229788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16120" y="352188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2720" y="335772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0000" y="368748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47280" y="356400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56800" y="339840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3400" y="368748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94000" y="368748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49320" y="335772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403280" y="4581360"/>
            <a:ext cx="2664000" cy="865440"/>
            <a:chOff x="1403280" y="4581360"/>
            <a:chExt cx="2664000" cy="865440"/>
          </a:xfrm>
        </p:grpSpPr>
        <p:sp>
          <p:nvSpPr>
            <p:cNvPr id="131" name=""/>
            <p:cNvSpPr/>
            <p:nvPr/>
          </p:nvSpPr>
          <p:spPr>
            <a:xfrm>
              <a:off x="1403280" y="4581360"/>
              <a:ext cx="229788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16120" y="4745880"/>
              <a:ext cx="992160" cy="7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4581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0000" y="4911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47280" y="4787640"/>
              <a:ext cx="887400" cy="65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56800" y="4622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3400" y="4911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94000" y="4911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9320" y="458136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403280" y="5805360"/>
            <a:ext cx="2664000" cy="865440"/>
            <a:chOff x="1403280" y="5805360"/>
            <a:chExt cx="2664000" cy="865440"/>
          </a:xfrm>
        </p:grpSpPr>
        <p:sp>
          <p:nvSpPr>
            <p:cNvPr id="141" name=""/>
            <p:cNvSpPr/>
            <p:nvPr/>
          </p:nvSpPr>
          <p:spPr>
            <a:xfrm>
              <a:off x="1403280" y="5805360"/>
              <a:ext cx="229788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16120" y="5969880"/>
              <a:ext cx="992160" cy="7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72720" y="5805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0000" y="6135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7280" y="6011640"/>
              <a:ext cx="887400" cy="65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56800" y="5846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3400" y="6135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4000" y="6135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49320" y="580536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12000" y="1773360"/>
            <a:ext cx="2663280" cy="865080"/>
            <a:chOff x="6012000" y="1773360"/>
            <a:chExt cx="2663280" cy="865080"/>
          </a:xfrm>
        </p:grpSpPr>
        <p:sp>
          <p:nvSpPr>
            <p:cNvPr id="151" name=""/>
            <p:cNvSpPr/>
            <p:nvPr/>
          </p:nvSpPr>
          <p:spPr>
            <a:xfrm>
              <a:off x="6012000" y="177336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24840" y="193752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81440" y="1773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88360" y="2103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55640" y="197964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65520" y="1814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22120" y="2103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2720" y="2103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57680" y="177336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12000" y="2997360"/>
            <a:ext cx="2663280" cy="865080"/>
            <a:chOff x="6012000" y="2997360"/>
            <a:chExt cx="2663280" cy="865080"/>
          </a:xfrm>
        </p:grpSpPr>
        <p:sp>
          <p:nvSpPr>
            <p:cNvPr id="161" name=""/>
            <p:cNvSpPr/>
            <p:nvPr/>
          </p:nvSpPr>
          <p:spPr>
            <a:xfrm>
              <a:off x="6012000" y="299736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840" y="316152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81440" y="2997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8360" y="3327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55640" y="320364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65520" y="3038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22120" y="3327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2720" y="3327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57680" y="299736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012000" y="4292640"/>
            <a:ext cx="2663280" cy="865080"/>
            <a:chOff x="6012000" y="4292640"/>
            <a:chExt cx="2663280" cy="865080"/>
          </a:xfrm>
        </p:grpSpPr>
        <p:sp>
          <p:nvSpPr>
            <p:cNvPr id="171" name=""/>
            <p:cNvSpPr/>
            <p:nvPr/>
          </p:nvSpPr>
          <p:spPr>
            <a:xfrm>
              <a:off x="6012000" y="429264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24840" y="445680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1440" y="42926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88360" y="4622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55640" y="449892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65520" y="433332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22120" y="4622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2720" y="462240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57680" y="429264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12000" y="5661000"/>
            <a:ext cx="2663280" cy="865080"/>
            <a:chOff x="6012000" y="5661000"/>
            <a:chExt cx="2663280" cy="865080"/>
          </a:xfrm>
        </p:grpSpPr>
        <p:sp>
          <p:nvSpPr>
            <p:cNvPr id="181" name=""/>
            <p:cNvSpPr/>
            <p:nvPr/>
          </p:nvSpPr>
          <p:spPr>
            <a:xfrm>
              <a:off x="6012000" y="566100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840" y="582516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81440" y="566100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88360" y="599076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55640" y="586728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65520" y="570168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22120" y="599076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02720" y="599076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57680" y="566100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403280" y="2060640"/>
            <a:ext cx="2664000" cy="865080"/>
            <a:chOff x="1403280" y="2060640"/>
            <a:chExt cx="2664000" cy="865080"/>
          </a:xfrm>
        </p:grpSpPr>
        <p:grpSp>
          <p:nvGrpSpPr>
            <p:cNvPr id="191" name=""/>
            <p:cNvGrpSpPr/>
            <p:nvPr/>
          </p:nvGrpSpPr>
          <p:grpSpPr>
            <a:xfrm>
              <a:off x="1403280" y="2060640"/>
              <a:ext cx="2664000" cy="865080"/>
              <a:chOff x="1403280" y="2060640"/>
              <a:chExt cx="2664000" cy="865080"/>
            </a:xfrm>
          </p:grpSpPr>
          <p:sp>
            <p:nvSpPr>
              <p:cNvPr id="192" name=""/>
              <p:cNvSpPr/>
              <p:nvPr/>
            </p:nvSpPr>
            <p:spPr>
              <a:xfrm>
                <a:off x="1403280" y="2060640"/>
                <a:ext cx="2297880" cy="86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16120" y="2224800"/>
                <a:ext cx="992160" cy="700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72720" y="206064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80000" y="2390400"/>
                <a:ext cx="36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47280" y="2266920"/>
                <a:ext cx="887400" cy="658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56800" y="2101320"/>
                <a:ext cx="99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Geograph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13400" y="2390400"/>
                <a:ext cx="36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94000" y="2390400"/>
                <a:ext cx="36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49320" y="2060640"/>
                <a:ext cx="41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763640" y="2349360"/>
              <a:ext cx="812880" cy="374760"/>
            </a:xfrm>
            <a:custGeom>
              <a:avLst/>
              <a:gdLst/>
              <a:ahLst/>
              <a:rect l="l" t="t" r="r" b="b"/>
              <a:pathLst>
                <a:path w="2259" h="1043">
                  <a:moveTo>
                    <a:pt x="5655" y="6722"/>
                  </a:moveTo>
                  <a:cubicBezTo>
                    <a:pt x="5670" y="6713"/>
                    <a:pt x="5701" y="6711"/>
                    <a:pt x="5730" y="6697"/>
                  </a:cubicBezTo>
                  <a:cubicBezTo>
                    <a:pt x="5747" y="6689"/>
                    <a:pt x="5766" y="6683"/>
                    <a:pt x="5804" y="6672"/>
                  </a:cubicBezTo>
                  <a:cubicBezTo>
                    <a:pt x="5843" y="6661"/>
                    <a:pt x="5856" y="6650"/>
                    <a:pt x="5904" y="6648"/>
                  </a:cubicBezTo>
                  <a:cubicBezTo>
                    <a:pt x="5952" y="6646"/>
                    <a:pt x="5993" y="6628"/>
                    <a:pt x="6028" y="6623"/>
                  </a:cubicBezTo>
                  <a:cubicBezTo>
                    <a:pt x="6153" y="6607"/>
                    <a:pt x="6290" y="6634"/>
                    <a:pt x="6400" y="6648"/>
                  </a:cubicBezTo>
                  <a:cubicBezTo>
                    <a:pt x="6459" y="6656"/>
                    <a:pt x="6524" y="6664"/>
                    <a:pt x="6573" y="6672"/>
                  </a:cubicBezTo>
                  <a:cubicBezTo>
                    <a:pt x="6625" y="6680"/>
                    <a:pt x="6729" y="6694"/>
                    <a:pt x="6747" y="6697"/>
                  </a:cubicBezTo>
                  <a:cubicBezTo>
                    <a:pt x="6780" y="6702"/>
                    <a:pt x="6845" y="6722"/>
                    <a:pt x="6846" y="6722"/>
                  </a:cubicBezTo>
                  <a:cubicBezTo>
                    <a:pt x="6895" y="6731"/>
                    <a:pt x="6887" y="6729"/>
                    <a:pt x="6921" y="6747"/>
                  </a:cubicBezTo>
                  <a:cubicBezTo>
                    <a:pt x="6954" y="6765"/>
                    <a:pt x="6950" y="6758"/>
                    <a:pt x="6995" y="6772"/>
                  </a:cubicBezTo>
                  <a:cubicBezTo>
                    <a:pt x="7017" y="6779"/>
                    <a:pt x="7077" y="6809"/>
                    <a:pt x="7094" y="6821"/>
                  </a:cubicBezTo>
                  <a:cubicBezTo>
                    <a:pt x="7119" y="6838"/>
                    <a:pt x="7140" y="6827"/>
                    <a:pt x="7169" y="6846"/>
                  </a:cubicBezTo>
                  <a:cubicBezTo>
                    <a:pt x="7182" y="6855"/>
                    <a:pt x="7203" y="6904"/>
                    <a:pt x="7218" y="6921"/>
                  </a:cubicBezTo>
                  <a:cubicBezTo>
                    <a:pt x="7229" y="6933"/>
                    <a:pt x="7280" y="6962"/>
                    <a:pt x="7293" y="6995"/>
                  </a:cubicBezTo>
                  <a:cubicBezTo>
                    <a:pt x="7314" y="7049"/>
                    <a:pt x="7284" y="7124"/>
                    <a:pt x="7268" y="7144"/>
                  </a:cubicBezTo>
                  <a:cubicBezTo>
                    <a:pt x="7251" y="7165"/>
                    <a:pt x="7234" y="7175"/>
                    <a:pt x="7218" y="7193"/>
                  </a:cubicBezTo>
                  <a:cubicBezTo>
                    <a:pt x="7201" y="7213"/>
                    <a:pt x="7183" y="7254"/>
                    <a:pt x="7169" y="7268"/>
                  </a:cubicBezTo>
                  <a:cubicBezTo>
                    <a:pt x="7149" y="7289"/>
                    <a:pt x="7138" y="7292"/>
                    <a:pt x="7119" y="7317"/>
                  </a:cubicBezTo>
                  <a:cubicBezTo>
                    <a:pt x="7099" y="7344"/>
                    <a:pt x="7102" y="7360"/>
                    <a:pt x="7069" y="7367"/>
                  </a:cubicBezTo>
                  <a:cubicBezTo>
                    <a:pt x="7016" y="7378"/>
                    <a:pt x="7024" y="7366"/>
                    <a:pt x="6995" y="7392"/>
                  </a:cubicBezTo>
                  <a:cubicBezTo>
                    <a:pt x="6970" y="7414"/>
                    <a:pt x="6962" y="7407"/>
                    <a:pt x="6921" y="7417"/>
                  </a:cubicBezTo>
                  <a:cubicBezTo>
                    <a:pt x="6877" y="7427"/>
                    <a:pt x="6867" y="7429"/>
                    <a:pt x="6846" y="7441"/>
                  </a:cubicBezTo>
                  <a:cubicBezTo>
                    <a:pt x="6823" y="7454"/>
                    <a:pt x="6797" y="7449"/>
                    <a:pt x="6772" y="7466"/>
                  </a:cubicBezTo>
                  <a:cubicBezTo>
                    <a:pt x="6764" y="7472"/>
                    <a:pt x="6731" y="7507"/>
                    <a:pt x="6722" y="7516"/>
                  </a:cubicBezTo>
                  <a:cubicBezTo>
                    <a:pt x="6700" y="7538"/>
                    <a:pt x="6688" y="7534"/>
                    <a:pt x="6648" y="7541"/>
                  </a:cubicBezTo>
                  <a:cubicBezTo>
                    <a:pt x="6600" y="7549"/>
                    <a:pt x="6606" y="7547"/>
                    <a:pt x="6573" y="7565"/>
                  </a:cubicBezTo>
                  <a:cubicBezTo>
                    <a:pt x="6540" y="7584"/>
                    <a:pt x="6547" y="7582"/>
                    <a:pt x="6499" y="7590"/>
                  </a:cubicBezTo>
                  <a:cubicBezTo>
                    <a:pt x="6458" y="7597"/>
                    <a:pt x="6441" y="7608"/>
                    <a:pt x="6400" y="7615"/>
                  </a:cubicBezTo>
                  <a:cubicBezTo>
                    <a:pt x="6359" y="7622"/>
                    <a:pt x="6341" y="7634"/>
                    <a:pt x="6300" y="7640"/>
                  </a:cubicBezTo>
                  <a:cubicBezTo>
                    <a:pt x="6254" y="7647"/>
                    <a:pt x="6164" y="7663"/>
                    <a:pt x="6152" y="7665"/>
                  </a:cubicBezTo>
                  <a:cubicBezTo>
                    <a:pt x="6104" y="7673"/>
                    <a:pt x="6086" y="7644"/>
                    <a:pt x="6052" y="7640"/>
                  </a:cubicBezTo>
                  <a:cubicBezTo>
                    <a:pt x="5998" y="7633"/>
                    <a:pt x="5979" y="7629"/>
                    <a:pt x="5953" y="7615"/>
                  </a:cubicBezTo>
                  <a:cubicBezTo>
                    <a:pt x="5921" y="7598"/>
                    <a:pt x="5889" y="7602"/>
                    <a:pt x="5854" y="7590"/>
                  </a:cubicBezTo>
                  <a:cubicBezTo>
                    <a:pt x="5817" y="7578"/>
                    <a:pt x="5796" y="7571"/>
                    <a:pt x="5755" y="7565"/>
                  </a:cubicBezTo>
                  <a:cubicBezTo>
                    <a:pt x="5706" y="7558"/>
                    <a:pt x="5696" y="7571"/>
                    <a:pt x="5655" y="7541"/>
                  </a:cubicBezTo>
                  <a:cubicBezTo>
                    <a:pt x="5635" y="7526"/>
                    <a:pt x="5606" y="7510"/>
                    <a:pt x="5606" y="7466"/>
                  </a:cubicBezTo>
                  <a:cubicBezTo>
                    <a:pt x="5606" y="7447"/>
                    <a:pt x="5632" y="7412"/>
                    <a:pt x="5655" y="7392"/>
                  </a:cubicBezTo>
                  <a:cubicBezTo>
                    <a:pt x="5661" y="7387"/>
                    <a:pt x="5745" y="7344"/>
                    <a:pt x="5755" y="7342"/>
                  </a:cubicBezTo>
                  <a:cubicBezTo>
                    <a:pt x="5849" y="7326"/>
                    <a:pt x="5942" y="7356"/>
                    <a:pt x="6028" y="7367"/>
                  </a:cubicBezTo>
                  <a:cubicBezTo>
                    <a:pt x="6089" y="7375"/>
                    <a:pt x="6141" y="7386"/>
                    <a:pt x="6201" y="7392"/>
                  </a:cubicBezTo>
                  <a:cubicBezTo>
                    <a:pt x="6292" y="7401"/>
                    <a:pt x="6373" y="7380"/>
                    <a:pt x="6449" y="7367"/>
                  </a:cubicBezTo>
                  <a:cubicBezTo>
                    <a:pt x="6492" y="7360"/>
                    <a:pt x="6499" y="7364"/>
                    <a:pt x="6524" y="7342"/>
                  </a:cubicBezTo>
                  <a:cubicBezTo>
                    <a:pt x="6556" y="7314"/>
                    <a:pt x="6596" y="7288"/>
                    <a:pt x="6623" y="7268"/>
                  </a:cubicBezTo>
                  <a:cubicBezTo>
                    <a:pt x="6648" y="7268"/>
                    <a:pt x="6656" y="7268"/>
                    <a:pt x="6648" y="7243"/>
                  </a:cubicBezTo>
                  <a:cubicBezTo>
                    <a:pt x="6624" y="7209"/>
                    <a:pt x="6619" y="7190"/>
                    <a:pt x="6573" y="7169"/>
                  </a:cubicBezTo>
                  <a:cubicBezTo>
                    <a:pt x="6533" y="7151"/>
                    <a:pt x="6472" y="7102"/>
                    <a:pt x="6424" y="7094"/>
                  </a:cubicBezTo>
                  <a:cubicBezTo>
                    <a:pt x="6358" y="7083"/>
                    <a:pt x="6310" y="7091"/>
                    <a:pt x="6251" y="7069"/>
                  </a:cubicBezTo>
                  <a:cubicBezTo>
                    <a:pt x="6211" y="7054"/>
                    <a:pt x="6173" y="7029"/>
                    <a:pt x="6127" y="7020"/>
                  </a:cubicBezTo>
                  <a:cubicBezTo>
                    <a:pt x="6077" y="7011"/>
                    <a:pt x="6072" y="7022"/>
                    <a:pt x="6028" y="6995"/>
                  </a:cubicBezTo>
                  <a:cubicBezTo>
                    <a:pt x="6000" y="6977"/>
                    <a:pt x="5996" y="6973"/>
                    <a:pt x="5978" y="6945"/>
                  </a:cubicBezTo>
                  <a:cubicBezTo>
                    <a:pt x="5958" y="6914"/>
                    <a:pt x="5960" y="6916"/>
                    <a:pt x="5928" y="6896"/>
                  </a:cubicBezTo>
                  <a:cubicBezTo>
                    <a:pt x="5898" y="6878"/>
                    <a:pt x="5901" y="6866"/>
                    <a:pt x="5879" y="6846"/>
                  </a:cubicBezTo>
                  <a:cubicBezTo>
                    <a:pt x="5854" y="6824"/>
                    <a:pt x="5861" y="6805"/>
                    <a:pt x="5829" y="6796"/>
                  </a:cubicBezTo>
                  <a:cubicBezTo>
                    <a:pt x="5754" y="6774"/>
                    <a:pt x="5578" y="6778"/>
                    <a:pt x="5531" y="6772"/>
                  </a:cubicBezTo>
                  <a:cubicBezTo>
                    <a:pt x="5479" y="6765"/>
                    <a:pt x="5451" y="6788"/>
                    <a:pt x="5432" y="6796"/>
                  </a:cubicBezTo>
                  <a:cubicBezTo>
                    <a:pt x="5386" y="6814"/>
                    <a:pt x="5356" y="6848"/>
                    <a:pt x="5333" y="6871"/>
                  </a:cubicBezTo>
                  <a:cubicBezTo>
                    <a:pt x="5319" y="6885"/>
                    <a:pt x="5288" y="6906"/>
                    <a:pt x="5259" y="6921"/>
                  </a:cubicBezTo>
                  <a:cubicBezTo>
                    <a:pt x="5230" y="6936"/>
                    <a:pt x="5229" y="6957"/>
                    <a:pt x="5209" y="6970"/>
                  </a:cubicBezTo>
                  <a:cubicBezTo>
                    <a:pt x="5174" y="6994"/>
                    <a:pt x="5157" y="7002"/>
                    <a:pt x="5135" y="7020"/>
                  </a:cubicBezTo>
                  <a:cubicBezTo>
                    <a:pt x="5118" y="7034"/>
                    <a:pt x="5104" y="7053"/>
                    <a:pt x="5085" y="7069"/>
                  </a:cubicBezTo>
                  <a:cubicBezTo>
                    <a:pt x="5059" y="7091"/>
                    <a:pt x="5046" y="7080"/>
                    <a:pt x="5035" y="7119"/>
                  </a:cubicBezTo>
                  <a:cubicBezTo>
                    <a:pt x="5029" y="7141"/>
                    <a:pt x="5037" y="7170"/>
                    <a:pt x="5035" y="7193"/>
                  </a:cubicBezTo>
                  <a:cubicBezTo>
                    <a:pt x="5082" y="7199"/>
                    <a:pt x="5095" y="7204"/>
                    <a:pt x="5135" y="7218"/>
                  </a:cubicBezTo>
                  <a:cubicBezTo>
                    <a:pt x="5167" y="7229"/>
                    <a:pt x="5207" y="7223"/>
                    <a:pt x="5234" y="7243"/>
                  </a:cubicBezTo>
                  <a:cubicBezTo>
                    <a:pt x="5266" y="7267"/>
                    <a:pt x="5292" y="7303"/>
                    <a:pt x="5308" y="7317"/>
                  </a:cubicBezTo>
                  <a:cubicBezTo>
                    <a:pt x="5326" y="7333"/>
                    <a:pt x="5334" y="7361"/>
                    <a:pt x="5358" y="7392"/>
                  </a:cubicBezTo>
                  <a:cubicBezTo>
                    <a:pt x="5370" y="7407"/>
                    <a:pt x="5404" y="7420"/>
                    <a:pt x="5432" y="7441"/>
                  </a:cubicBezTo>
                  <a:cubicBezTo>
                    <a:pt x="5454" y="7458"/>
                    <a:pt x="5470" y="7471"/>
                    <a:pt x="5507" y="7491"/>
                  </a:cubicBezTo>
                  <a:cubicBezTo>
                    <a:pt x="5539" y="7508"/>
                    <a:pt x="5546" y="7532"/>
                    <a:pt x="5581" y="7541"/>
                  </a:cubicBezTo>
                  <a:cubicBezTo>
                    <a:pt x="5616" y="7550"/>
                    <a:pt x="5649" y="7546"/>
                    <a:pt x="5680" y="7565"/>
                  </a:cubicBezTo>
                  <a:cubicBezTo>
                    <a:pt x="5712" y="7585"/>
                    <a:pt x="5712" y="7575"/>
                    <a:pt x="5755" y="7590"/>
                  </a:cubicBezTo>
                  <a:cubicBezTo>
                    <a:pt x="5777" y="7598"/>
                    <a:pt x="5796" y="7638"/>
                    <a:pt x="5804" y="7640"/>
                  </a:cubicBezTo>
                  <a:cubicBezTo>
                    <a:pt x="5847" y="7652"/>
                    <a:pt x="5847" y="7660"/>
                    <a:pt x="5879" y="7665"/>
                  </a:cubicBezTo>
                  <a:cubicBezTo>
                    <a:pt x="5998" y="7683"/>
                    <a:pt x="6200" y="7685"/>
                    <a:pt x="6300" y="7640"/>
                  </a:cubicBezTo>
                  <a:cubicBezTo>
                    <a:pt x="6333" y="7625"/>
                    <a:pt x="6365" y="7627"/>
                    <a:pt x="6400" y="7615"/>
                  </a:cubicBezTo>
                  <a:cubicBezTo>
                    <a:pt x="6428" y="7606"/>
                    <a:pt x="6466" y="7570"/>
                    <a:pt x="6474" y="7541"/>
                  </a:cubicBezTo>
                  <a:cubicBezTo>
                    <a:pt x="6485" y="7505"/>
                    <a:pt x="6475" y="7485"/>
                    <a:pt x="6499" y="7466"/>
                  </a:cubicBezTo>
                  <a:cubicBezTo>
                    <a:pt x="6543" y="7431"/>
                    <a:pt x="6536" y="7434"/>
                    <a:pt x="6573" y="7392"/>
                  </a:cubicBezTo>
                  <a:cubicBezTo>
                    <a:pt x="6603" y="7358"/>
                    <a:pt x="6624" y="7333"/>
                    <a:pt x="6648" y="7317"/>
                  </a:cubicBezTo>
                  <a:cubicBezTo>
                    <a:pt x="6682" y="7295"/>
                    <a:pt x="6707" y="7275"/>
                    <a:pt x="6747" y="7268"/>
                  </a:cubicBezTo>
                  <a:cubicBezTo>
                    <a:pt x="6785" y="7261"/>
                    <a:pt x="6838" y="7245"/>
                    <a:pt x="6846" y="7243"/>
                  </a:cubicBezTo>
                  <a:cubicBezTo>
                    <a:pt x="6854" y="7243"/>
                    <a:pt x="6863" y="7243"/>
                    <a:pt x="6871" y="7243"/>
                  </a:cubicBezTo>
                  <a:cubicBezTo>
                    <a:pt x="6847" y="7229"/>
                    <a:pt x="6849" y="7220"/>
                    <a:pt x="6796" y="7218"/>
                  </a:cubicBezTo>
                  <a:cubicBezTo>
                    <a:pt x="6722" y="7215"/>
                    <a:pt x="6697" y="7218"/>
                    <a:pt x="6623" y="7218"/>
                  </a:cubicBezTo>
                  <a:cubicBezTo>
                    <a:pt x="6669" y="7200"/>
                    <a:pt x="6688" y="7195"/>
                    <a:pt x="6747" y="7193"/>
                  </a:cubicBezTo>
                  <a:cubicBezTo>
                    <a:pt x="6821" y="7191"/>
                    <a:pt x="6896" y="7193"/>
                    <a:pt x="6970" y="7193"/>
                  </a:cubicBezTo>
                  <a:cubicBezTo>
                    <a:pt x="6940" y="7208"/>
                    <a:pt x="6898" y="7227"/>
                    <a:pt x="6871" y="7243"/>
                  </a:cubicBezTo>
                  <a:cubicBezTo>
                    <a:pt x="6829" y="7269"/>
                    <a:pt x="6785" y="7290"/>
                    <a:pt x="6747" y="7317"/>
                  </a:cubicBezTo>
                  <a:cubicBezTo>
                    <a:pt x="6695" y="7353"/>
                    <a:pt x="6775" y="7345"/>
                    <a:pt x="6722" y="7293"/>
                  </a:cubicBezTo>
                </a:path>
              </a:pathLst>
            </a:custGeom>
            <a:noFill/>
            <a:ln cap="sq" w="228600">
              <a:solidFill>
                <a:srgbClr val="ffff00">
                  <a:alpha val="3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276720" y="3483000"/>
            <a:ext cx="349200" cy="608040"/>
          </a:xfrm>
          <a:custGeom>
            <a:avLst/>
            <a:gdLst/>
            <a:ahLst/>
            <a:rect l="l" t="t" r="r" b="b"/>
            <a:pathLst>
              <a:path w="969" h="1688">
                <a:moveTo>
                  <a:pt x="10021" y="9699"/>
                </a:moveTo>
                <a:cubicBezTo>
                  <a:pt x="10066" y="9708"/>
                  <a:pt x="10076" y="9683"/>
                  <a:pt x="10046" y="9723"/>
                </a:cubicBezTo>
                <a:cubicBezTo>
                  <a:pt x="10031" y="9743"/>
                  <a:pt x="10007" y="9746"/>
                  <a:pt x="9971" y="9748"/>
                </a:cubicBezTo>
                <a:cubicBezTo>
                  <a:pt x="9917" y="9751"/>
                  <a:pt x="9898" y="9732"/>
                  <a:pt x="9847" y="9723"/>
                </a:cubicBezTo>
                <a:cubicBezTo>
                  <a:pt x="9802" y="9715"/>
                  <a:pt x="9787" y="9741"/>
                  <a:pt x="9748" y="9748"/>
                </a:cubicBezTo>
                <a:cubicBezTo>
                  <a:pt x="9693" y="9757"/>
                  <a:pt x="9671" y="9734"/>
                  <a:pt x="9649" y="9723"/>
                </a:cubicBezTo>
                <a:cubicBezTo>
                  <a:pt x="9617" y="9706"/>
                  <a:pt x="9610" y="9683"/>
                  <a:pt x="9575" y="9674"/>
                </a:cubicBezTo>
                <a:cubicBezTo>
                  <a:pt x="9516" y="9658"/>
                  <a:pt x="9446" y="9695"/>
                  <a:pt x="9426" y="9699"/>
                </a:cubicBezTo>
                <a:cubicBezTo>
                  <a:pt x="9327" y="9719"/>
                  <a:pt x="9204" y="9699"/>
                  <a:pt x="9103" y="9699"/>
                </a:cubicBezTo>
                <a:cubicBezTo>
                  <a:pt x="9124" y="9735"/>
                  <a:pt x="9136" y="9754"/>
                  <a:pt x="9153" y="9773"/>
                </a:cubicBezTo>
                <a:cubicBezTo>
                  <a:pt x="9177" y="9799"/>
                  <a:pt x="9190" y="9812"/>
                  <a:pt x="9227" y="9847"/>
                </a:cubicBezTo>
                <a:cubicBezTo>
                  <a:pt x="9267" y="9884"/>
                  <a:pt x="9315" y="9908"/>
                  <a:pt x="9351" y="9947"/>
                </a:cubicBezTo>
                <a:cubicBezTo>
                  <a:pt x="9384" y="9983"/>
                  <a:pt x="9423" y="10030"/>
                  <a:pt x="9451" y="10071"/>
                </a:cubicBezTo>
                <a:cubicBezTo>
                  <a:pt x="9469" y="10098"/>
                  <a:pt x="9473" y="10134"/>
                  <a:pt x="9475" y="10170"/>
                </a:cubicBezTo>
                <a:cubicBezTo>
                  <a:pt x="9477" y="10211"/>
                  <a:pt x="9475" y="10253"/>
                  <a:pt x="9475" y="10294"/>
                </a:cubicBezTo>
                <a:cubicBezTo>
                  <a:pt x="9463" y="10270"/>
                  <a:pt x="9465" y="10244"/>
                  <a:pt x="9451" y="10195"/>
                </a:cubicBezTo>
                <a:cubicBezTo>
                  <a:pt x="9439" y="10153"/>
                  <a:pt x="9407" y="10143"/>
                  <a:pt x="9475" y="10120"/>
                </a:cubicBezTo>
                <a:cubicBezTo>
                  <a:pt x="9551" y="10094"/>
                  <a:pt x="9753" y="10104"/>
                  <a:pt x="9823" y="10145"/>
                </a:cubicBezTo>
                <a:cubicBezTo>
                  <a:pt x="9843" y="10157"/>
                  <a:pt x="9843" y="10188"/>
                  <a:pt x="9847" y="10220"/>
                </a:cubicBezTo>
                <a:cubicBezTo>
                  <a:pt x="9779" y="10220"/>
                  <a:pt x="9709" y="10232"/>
                  <a:pt x="9649" y="10195"/>
                </a:cubicBezTo>
                <a:cubicBezTo>
                  <a:pt x="9641" y="10187"/>
                  <a:pt x="9632" y="10178"/>
                  <a:pt x="9624" y="10170"/>
                </a:cubicBezTo>
                <a:cubicBezTo>
                  <a:pt x="9674" y="10170"/>
                  <a:pt x="9673" y="10170"/>
                  <a:pt x="9723" y="10170"/>
                </a:cubicBezTo>
                <a:cubicBezTo>
                  <a:pt x="9794" y="10170"/>
                  <a:pt x="9839" y="10173"/>
                  <a:pt x="9897" y="10195"/>
                </a:cubicBezTo>
                <a:cubicBezTo>
                  <a:pt x="9979" y="10226"/>
                  <a:pt x="9931" y="10215"/>
                  <a:pt x="9947" y="10269"/>
                </a:cubicBezTo>
                <a:cubicBezTo>
                  <a:pt x="9894" y="10289"/>
                  <a:pt x="9865" y="10294"/>
                  <a:pt x="9798" y="10294"/>
                </a:cubicBezTo>
                <a:cubicBezTo>
                  <a:pt x="9715" y="10294"/>
                  <a:pt x="9758" y="10298"/>
                  <a:pt x="9723" y="10319"/>
                </a:cubicBezTo>
                <a:cubicBezTo>
                  <a:pt x="9764" y="10319"/>
                  <a:pt x="9757" y="10319"/>
                  <a:pt x="9798" y="10319"/>
                </a:cubicBezTo>
                <a:cubicBezTo>
                  <a:pt x="9875" y="10319"/>
                  <a:pt x="9933" y="10321"/>
                  <a:pt x="9996" y="10344"/>
                </a:cubicBezTo>
                <a:cubicBezTo>
                  <a:pt x="10024" y="10344"/>
                  <a:pt x="10035" y="10346"/>
                  <a:pt x="10046" y="10368"/>
                </a:cubicBezTo>
                <a:cubicBezTo>
                  <a:pt x="10013" y="10407"/>
                  <a:pt x="9993" y="10434"/>
                  <a:pt x="9922" y="10443"/>
                </a:cubicBezTo>
                <a:cubicBezTo>
                  <a:pt x="9846" y="10453"/>
                  <a:pt x="9775" y="10462"/>
                  <a:pt x="9699" y="10468"/>
                </a:cubicBezTo>
                <a:cubicBezTo>
                  <a:pt x="9674" y="10468"/>
                  <a:pt x="9666" y="10468"/>
                  <a:pt x="9699" y="10468"/>
                </a:cubicBezTo>
                <a:cubicBezTo>
                  <a:pt x="9786" y="10468"/>
                  <a:pt x="9930" y="10438"/>
                  <a:pt x="9996" y="10492"/>
                </a:cubicBezTo>
                <a:cubicBezTo>
                  <a:pt x="10026" y="10522"/>
                  <a:pt x="10037" y="10536"/>
                  <a:pt x="10046" y="10567"/>
                </a:cubicBezTo>
                <a:cubicBezTo>
                  <a:pt x="9977" y="10604"/>
                  <a:pt x="9955" y="10616"/>
                  <a:pt x="9872" y="10616"/>
                </a:cubicBezTo>
                <a:cubicBezTo>
                  <a:pt x="9817" y="10616"/>
                  <a:pt x="9751" y="10577"/>
                  <a:pt x="9699" y="10592"/>
                </a:cubicBezTo>
                <a:cubicBezTo>
                  <a:pt x="9674" y="10592"/>
                  <a:pt x="9666" y="10592"/>
                  <a:pt x="9674" y="10616"/>
                </a:cubicBezTo>
                <a:cubicBezTo>
                  <a:pt x="9756" y="10616"/>
                  <a:pt x="9818" y="10630"/>
                  <a:pt x="9897" y="10641"/>
                </a:cubicBezTo>
                <a:cubicBezTo>
                  <a:pt x="9969" y="10651"/>
                  <a:pt x="9994" y="10652"/>
                  <a:pt x="10021" y="10716"/>
                </a:cubicBezTo>
                <a:cubicBezTo>
                  <a:pt x="10021" y="10724"/>
                  <a:pt x="10021" y="10732"/>
                  <a:pt x="10021" y="10740"/>
                </a:cubicBezTo>
                <a:cubicBezTo>
                  <a:pt x="9893" y="10740"/>
                  <a:pt x="9710" y="10728"/>
                  <a:pt x="9624" y="10765"/>
                </a:cubicBezTo>
                <a:cubicBezTo>
                  <a:pt x="9683" y="10781"/>
                  <a:pt x="9741" y="10789"/>
                  <a:pt x="9798" y="10815"/>
                </a:cubicBezTo>
                <a:cubicBezTo>
                  <a:pt x="9868" y="10847"/>
                  <a:pt x="9918" y="10828"/>
                  <a:pt x="9971" y="10889"/>
                </a:cubicBezTo>
                <a:cubicBezTo>
                  <a:pt x="9994" y="10912"/>
                  <a:pt x="10002" y="10916"/>
                  <a:pt x="9996" y="10939"/>
                </a:cubicBezTo>
                <a:cubicBezTo>
                  <a:pt x="9931" y="10957"/>
                  <a:pt x="9877" y="10964"/>
                  <a:pt x="9798" y="10964"/>
                </a:cubicBezTo>
                <a:cubicBezTo>
                  <a:pt x="9748" y="10964"/>
                  <a:pt x="9699" y="10964"/>
                  <a:pt x="9649" y="10964"/>
                </a:cubicBezTo>
                <a:cubicBezTo>
                  <a:pt x="9719" y="10982"/>
                  <a:pt x="9771" y="10988"/>
                  <a:pt x="9847" y="10988"/>
                </a:cubicBezTo>
                <a:cubicBezTo>
                  <a:pt x="9914" y="10988"/>
                  <a:pt x="9966" y="11018"/>
                  <a:pt x="10021" y="11038"/>
                </a:cubicBezTo>
                <a:cubicBezTo>
                  <a:pt x="9960" y="11061"/>
                  <a:pt x="9926" y="11063"/>
                  <a:pt x="9847" y="11063"/>
                </a:cubicBezTo>
                <a:cubicBezTo>
                  <a:pt x="9802" y="11063"/>
                  <a:pt x="9656" y="11040"/>
                  <a:pt x="9624" y="11013"/>
                </a:cubicBezTo>
                <a:cubicBezTo>
                  <a:pt x="9569" y="10968"/>
                  <a:pt x="9615" y="10959"/>
                  <a:pt x="9624" y="10939"/>
                </a:cubicBezTo>
                <a:cubicBezTo>
                  <a:pt x="9642" y="10901"/>
                  <a:pt x="9654" y="10905"/>
                  <a:pt x="9674" y="10889"/>
                </a:cubicBezTo>
                <a:cubicBezTo>
                  <a:pt x="9608" y="10911"/>
                  <a:pt x="9573" y="10914"/>
                  <a:pt x="9500" y="10914"/>
                </a:cubicBezTo>
                <a:cubicBezTo>
                  <a:pt x="9446" y="10914"/>
                  <a:pt x="9390" y="10900"/>
                  <a:pt x="9351" y="10939"/>
                </a:cubicBezTo>
                <a:cubicBezTo>
                  <a:pt x="9351" y="10947"/>
                  <a:pt x="9351" y="10956"/>
                  <a:pt x="9351" y="10964"/>
                </a:cubicBezTo>
                <a:cubicBezTo>
                  <a:pt x="9384" y="11002"/>
                  <a:pt x="9365" y="11006"/>
                  <a:pt x="9426" y="11013"/>
                </a:cubicBezTo>
                <a:cubicBezTo>
                  <a:pt x="9461" y="11017"/>
                  <a:pt x="9498" y="11019"/>
                  <a:pt x="9525" y="11038"/>
                </a:cubicBezTo>
                <a:cubicBezTo>
                  <a:pt x="9564" y="11067"/>
                  <a:pt x="9580" y="11102"/>
                  <a:pt x="9599" y="11137"/>
                </a:cubicBezTo>
                <a:cubicBezTo>
                  <a:pt x="9625" y="11184"/>
                  <a:pt x="9615" y="11182"/>
                  <a:pt x="9674" y="11187"/>
                </a:cubicBezTo>
                <a:cubicBezTo>
                  <a:pt x="9725" y="11192"/>
                  <a:pt x="9754" y="11197"/>
                  <a:pt x="9798" y="11212"/>
                </a:cubicBezTo>
                <a:cubicBezTo>
                  <a:pt x="9831" y="11224"/>
                  <a:pt x="9888" y="11255"/>
                  <a:pt x="9922" y="11261"/>
                </a:cubicBezTo>
                <a:cubicBezTo>
                  <a:pt x="9977" y="11270"/>
                  <a:pt x="9958" y="11230"/>
                  <a:pt x="9996" y="11237"/>
                </a:cubicBezTo>
                <a:cubicBezTo>
                  <a:pt x="10004" y="11239"/>
                  <a:pt x="10061" y="11253"/>
                  <a:pt x="10071" y="11261"/>
                </a:cubicBezTo>
                <a:cubicBezTo>
                  <a:pt x="10071" y="11269"/>
                  <a:pt x="10071" y="11278"/>
                  <a:pt x="10071" y="11286"/>
                </a:cubicBezTo>
                <a:cubicBezTo>
                  <a:pt x="10048" y="11356"/>
                  <a:pt x="10075" y="11302"/>
                  <a:pt x="10021" y="11336"/>
                </a:cubicBezTo>
                <a:cubicBezTo>
                  <a:pt x="9992" y="11355"/>
                  <a:pt x="9993" y="11358"/>
                  <a:pt x="9947" y="11361"/>
                </a:cubicBezTo>
                <a:cubicBezTo>
                  <a:pt x="9901" y="11364"/>
                  <a:pt x="9887" y="11343"/>
                  <a:pt x="9847" y="11336"/>
                </a:cubicBezTo>
                <a:cubicBezTo>
                  <a:pt x="9798" y="11328"/>
                  <a:pt x="9738" y="11318"/>
                  <a:pt x="9699" y="11311"/>
                </a:cubicBezTo>
                <a:cubicBezTo>
                  <a:pt x="9666" y="11305"/>
                  <a:pt x="9657" y="11293"/>
                  <a:pt x="9624" y="11286"/>
                </a:cubicBezTo>
                <a:cubicBezTo>
                  <a:pt x="9594" y="11280"/>
                  <a:pt x="9550" y="11257"/>
                  <a:pt x="9525" y="11261"/>
                </a:cubicBezTo>
                <a:cubicBezTo>
                  <a:pt x="9485" y="11267"/>
                  <a:pt x="9505" y="11283"/>
                  <a:pt x="9451" y="11286"/>
                </a:cubicBezTo>
                <a:cubicBezTo>
                  <a:pt x="9397" y="11289"/>
                  <a:pt x="9348" y="11305"/>
                  <a:pt x="9327" y="11311"/>
                </a:cubicBezTo>
                <a:cubicBezTo>
                  <a:pt x="9319" y="11311"/>
                  <a:pt x="9310" y="11311"/>
                  <a:pt x="9302" y="11311"/>
                </a:cubicBezTo>
                <a:cubicBezTo>
                  <a:pt x="9325" y="11334"/>
                  <a:pt x="9319" y="11352"/>
                  <a:pt x="9351" y="11361"/>
                </a:cubicBezTo>
                <a:cubicBezTo>
                  <a:pt x="9404" y="11376"/>
                  <a:pt x="9461" y="11339"/>
                  <a:pt x="9475" y="11336"/>
                </a:cubicBezTo>
                <a:cubicBezTo>
                  <a:pt x="9519" y="11327"/>
                  <a:pt x="9523" y="11333"/>
                  <a:pt x="9550" y="11311"/>
                </a:cubicBezTo>
                <a:cubicBezTo>
                  <a:pt x="9579" y="11288"/>
                  <a:pt x="9578" y="11293"/>
                  <a:pt x="9599" y="11261"/>
                </a:cubicBezTo>
                <a:cubicBezTo>
                  <a:pt x="9615" y="11236"/>
                  <a:pt x="9634" y="11191"/>
                  <a:pt x="9649" y="11162"/>
                </a:cubicBezTo>
                <a:cubicBezTo>
                  <a:pt x="9649" y="11137"/>
                  <a:pt x="9649" y="11129"/>
                  <a:pt x="9649" y="111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6120" y="3510000"/>
            <a:ext cx="384120" cy="571320"/>
          </a:xfrm>
          <a:custGeom>
            <a:avLst/>
            <a:gdLst/>
            <a:ahLst/>
            <a:rect l="l" t="t" r="r" b="b"/>
            <a:pathLst>
              <a:path w="1068" h="1589">
                <a:moveTo>
                  <a:pt x="4738" y="11336"/>
                </a:moveTo>
                <a:cubicBezTo>
                  <a:pt x="4718" y="11316"/>
                  <a:pt x="4695" y="11292"/>
                  <a:pt x="4663" y="11286"/>
                </a:cubicBezTo>
                <a:cubicBezTo>
                  <a:pt x="4525" y="11258"/>
                  <a:pt x="4339" y="11290"/>
                  <a:pt x="4217" y="11311"/>
                </a:cubicBezTo>
                <a:cubicBezTo>
                  <a:pt x="4151" y="11322"/>
                  <a:pt x="4074" y="11311"/>
                  <a:pt x="4043" y="11286"/>
                </a:cubicBezTo>
                <a:cubicBezTo>
                  <a:pt x="4022" y="11269"/>
                  <a:pt x="4007" y="11260"/>
                  <a:pt x="4018" y="11212"/>
                </a:cubicBezTo>
                <a:cubicBezTo>
                  <a:pt x="4027" y="11173"/>
                  <a:pt x="4041" y="11156"/>
                  <a:pt x="4043" y="11112"/>
                </a:cubicBezTo>
                <a:cubicBezTo>
                  <a:pt x="4048" y="11027"/>
                  <a:pt x="4025" y="10933"/>
                  <a:pt x="4068" y="10864"/>
                </a:cubicBezTo>
                <a:cubicBezTo>
                  <a:pt x="4084" y="10839"/>
                  <a:pt x="4099" y="10823"/>
                  <a:pt x="4142" y="10815"/>
                </a:cubicBezTo>
                <a:cubicBezTo>
                  <a:pt x="4261" y="10793"/>
                  <a:pt x="4599" y="10873"/>
                  <a:pt x="4663" y="10790"/>
                </a:cubicBezTo>
                <a:cubicBezTo>
                  <a:pt x="4693" y="10751"/>
                  <a:pt x="4685" y="10740"/>
                  <a:pt x="4688" y="10691"/>
                </a:cubicBezTo>
                <a:cubicBezTo>
                  <a:pt x="4694" y="10579"/>
                  <a:pt x="4674" y="10465"/>
                  <a:pt x="4663" y="10368"/>
                </a:cubicBezTo>
                <a:cubicBezTo>
                  <a:pt x="4653" y="10278"/>
                  <a:pt x="4762" y="10173"/>
                  <a:pt x="4688" y="10120"/>
                </a:cubicBezTo>
                <a:cubicBezTo>
                  <a:pt x="4655" y="10097"/>
                  <a:pt x="4610" y="10135"/>
                  <a:pt x="4589" y="10145"/>
                </a:cubicBezTo>
                <a:cubicBezTo>
                  <a:pt x="4548" y="10163"/>
                  <a:pt x="4527" y="10186"/>
                  <a:pt x="4490" y="10220"/>
                </a:cubicBezTo>
                <a:cubicBezTo>
                  <a:pt x="4458" y="10250"/>
                  <a:pt x="4417" y="10273"/>
                  <a:pt x="4390" y="10294"/>
                </a:cubicBezTo>
                <a:cubicBezTo>
                  <a:pt x="4369" y="10310"/>
                  <a:pt x="4365" y="10305"/>
                  <a:pt x="4341" y="10319"/>
                </a:cubicBezTo>
                <a:cubicBezTo>
                  <a:pt x="4309" y="10300"/>
                  <a:pt x="4309" y="10309"/>
                  <a:pt x="4266" y="10294"/>
                </a:cubicBezTo>
                <a:cubicBezTo>
                  <a:pt x="4237" y="10284"/>
                  <a:pt x="4195" y="10282"/>
                  <a:pt x="4167" y="10269"/>
                </a:cubicBezTo>
                <a:cubicBezTo>
                  <a:pt x="4137" y="10255"/>
                  <a:pt x="4136" y="10248"/>
                  <a:pt x="4118" y="10220"/>
                </a:cubicBezTo>
                <a:cubicBezTo>
                  <a:pt x="4110" y="10207"/>
                  <a:pt x="4071" y="10136"/>
                  <a:pt x="4068" y="10120"/>
                </a:cubicBezTo>
                <a:cubicBezTo>
                  <a:pt x="4058" y="10064"/>
                  <a:pt x="4060" y="10023"/>
                  <a:pt x="4043" y="9971"/>
                </a:cubicBezTo>
                <a:cubicBezTo>
                  <a:pt x="4030" y="9932"/>
                  <a:pt x="4022" y="9920"/>
                  <a:pt x="4018" y="9872"/>
                </a:cubicBezTo>
                <a:cubicBezTo>
                  <a:pt x="4018" y="9864"/>
                  <a:pt x="4018" y="9855"/>
                  <a:pt x="4018" y="9847"/>
                </a:cubicBezTo>
                <a:cubicBezTo>
                  <a:pt x="4159" y="9847"/>
                  <a:pt x="4336" y="9843"/>
                  <a:pt x="4440" y="9823"/>
                </a:cubicBezTo>
                <a:cubicBezTo>
                  <a:pt x="4501" y="9811"/>
                  <a:pt x="4609" y="9804"/>
                  <a:pt x="4638" y="9798"/>
                </a:cubicBezTo>
                <a:cubicBezTo>
                  <a:pt x="4735" y="9778"/>
                  <a:pt x="4845" y="9808"/>
                  <a:pt x="4911" y="9773"/>
                </a:cubicBezTo>
                <a:cubicBezTo>
                  <a:pt x="4943" y="9756"/>
                  <a:pt x="4972" y="9750"/>
                  <a:pt x="5011" y="9748"/>
                </a:cubicBezTo>
                <a:cubicBezTo>
                  <a:pt x="5035" y="9747"/>
                  <a:pt x="5061" y="9748"/>
                  <a:pt x="5085" y="974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920" y="3490920"/>
            <a:ext cx="106200" cy="19080"/>
          </a:xfrm>
          <a:custGeom>
            <a:avLst/>
            <a:gdLst/>
            <a:ahLst/>
            <a:rect l="l" t="t" r="r" b="b"/>
            <a:pathLst>
              <a:path w="299" h="50">
                <a:moveTo>
                  <a:pt x="7268" y="9723"/>
                </a:moveTo>
                <a:cubicBezTo>
                  <a:pt x="7268" y="9715"/>
                  <a:pt x="7268" y="9707"/>
                  <a:pt x="7268" y="9699"/>
                </a:cubicBezTo>
                <a:cubicBezTo>
                  <a:pt x="7231" y="9711"/>
                  <a:pt x="7246" y="9723"/>
                  <a:pt x="7193" y="9723"/>
                </a:cubicBezTo>
                <a:cubicBezTo>
                  <a:pt x="7152" y="9723"/>
                  <a:pt x="7110" y="9723"/>
                  <a:pt x="7069" y="9723"/>
                </a:cubicBezTo>
                <a:cubicBezTo>
                  <a:pt x="7057" y="9761"/>
                  <a:pt x="7040" y="9748"/>
                  <a:pt x="6995" y="9748"/>
                </a:cubicBezTo>
                <a:cubicBezTo>
                  <a:pt x="6987" y="9748"/>
                  <a:pt x="6978" y="9748"/>
                  <a:pt x="6970" y="974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2760" y="3473280"/>
            <a:ext cx="901440" cy="617760"/>
          </a:xfrm>
          <a:custGeom>
            <a:avLst/>
            <a:gdLst/>
            <a:ahLst/>
            <a:rect l="l" t="t" r="r" b="b"/>
            <a:pathLst>
              <a:path w="2506" h="1713">
                <a:moveTo>
                  <a:pt x="6672" y="9674"/>
                </a:moveTo>
                <a:cubicBezTo>
                  <a:pt x="6637" y="9665"/>
                  <a:pt x="6606" y="9653"/>
                  <a:pt x="6573" y="9649"/>
                </a:cubicBezTo>
                <a:cubicBezTo>
                  <a:pt x="6495" y="9640"/>
                  <a:pt x="6389" y="9669"/>
                  <a:pt x="6350" y="9674"/>
                </a:cubicBezTo>
                <a:cubicBezTo>
                  <a:pt x="6317" y="9678"/>
                  <a:pt x="6309" y="9693"/>
                  <a:pt x="6276" y="9699"/>
                </a:cubicBezTo>
                <a:cubicBezTo>
                  <a:pt x="6205" y="9711"/>
                  <a:pt x="6141" y="9704"/>
                  <a:pt x="6077" y="9723"/>
                </a:cubicBezTo>
                <a:cubicBezTo>
                  <a:pt x="6039" y="9734"/>
                  <a:pt x="6020" y="9742"/>
                  <a:pt x="5978" y="9748"/>
                </a:cubicBezTo>
                <a:cubicBezTo>
                  <a:pt x="5905" y="9759"/>
                  <a:pt x="5843" y="9754"/>
                  <a:pt x="5779" y="9773"/>
                </a:cubicBezTo>
                <a:cubicBezTo>
                  <a:pt x="5730" y="9788"/>
                  <a:pt x="5717" y="9793"/>
                  <a:pt x="5655" y="9798"/>
                </a:cubicBezTo>
                <a:cubicBezTo>
                  <a:pt x="5594" y="9803"/>
                  <a:pt x="5557" y="9808"/>
                  <a:pt x="5507" y="9823"/>
                </a:cubicBezTo>
                <a:cubicBezTo>
                  <a:pt x="5471" y="9833"/>
                  <a:pt x="5441" y="9836"/>
                  <a:pt x="5407" y="9847"/>
                </a:cubicBezTo>
                <a:cubicBezTo>
                  <a:pt x="5393" y="9852"/>
                  <a:pt x="5322" y="9864"/>
                  <a:pt x="5308" y="9872"/>
                </a:cubicBezTo>
                <a:cubicBezTo>
                  <a:pt x="5278" y="9889"/>
                  <a:pt x="5249" y="9907"/>
                  <a:pt x="5234" y="9922"/>
                </a:cubicBezTo>
                <a:cubicBezTo>
                  <a:pt x="5223" y="9933"/>
                  <a:pt x="5215" y="9984"/>
                  <a:pt x="5209" y="9996"/>
                </a:cubicBezTo>
                <a:cubicBezTo>
                  <a:pt x="5225" y="10005"/>
                  <a:pt x="5237" y="10048"/>
                  <a:pt x="5283" y="10046"/>
                </a:cubicBezTo>
                <a:cubicBezTo>
                  <a:pt x="5321" y="10044"/>
                  <a:pt x="5340" y="10024"/>
                  <a:pt x="5383" y="10021"/>
                </a:cubicBezTo>
                <a:cubicBezTo>
                  <a:pt x="5630" y="10003"/>
                  <a:pt x="5974" y="9978"/>
                  <a:pt x="6201" y="10046"/>
                </a:cubicBezTo>
                <a:cubicBezTo>
                  <a:pt x="6233" y="10056"/>
                  <a:pt x="6269" y="10067"/>
                  <a:pt x="6300" y="10071"/>
                </a:cubicBezTo>
                <a:cubicBezTo>
                  <a:pt x="6413" y="10085"/>
                  <a:pt x="6522" y="10060"/>
                  <a:pt x="6623" y="10096"/>
                </a:cubicBezTo>
                <a:cubicBezTo>
                  <a:pt x="6662" y="10110"/>
                  <a:pt x="6666" y="10111"/>
                  <a:pt x="6697" y="10120"/>
                </a:cubicBezTo>
                <a:cubicBezTo>
                  <a:pt x="6705" y="10120"/>
                  <a:pt x="6714" y="10120"/>
                  <a:pt x="6722" y="10120"/>
                </a:cubicBezTo>
                <a:cubicBezTo>
                  <a:pt x="6714" y="10170"/>
                  <a:pt x="6720" y="10176"/>
                  <a:pt x="6697" y="10220"/>
                </a:cubicBezTo>
                <a:cubicBezTo>
                  <a:pt x="6678" y="10256"/>
                  <a:pt x="6660" y="10288"/>
                  <a:pt x="6623" y="10319"/>
                </a:cubicBezTo>
                <a:cubicBezTo>
                  <a:pt x="6585" y="10350"/>
                  <a:pt x="6524" y="10385"/>
                  <a:pt x="6474" y="10393"/>
                </a:cubicBezTo>
                <a:cubicBezTo>
                  <a:pt x="6400" y="10405"/>
                  <a:pt x="6325" y="10415"/>
                  <a:pt x="6251" y="10418"/>
                </a:cubicBezTo>
                <a:cubicBezTo>
                  <a:pt x="6131" y="10422"/>
                  <a:pt x="6022" y="10440"/>
                  <a:pt x="5904" y="10443"/>
                </a:cubicBezTo>
                <a:cubicBezTo>
                  <a:pt x="5603" y="10452"/>
                  <a:pt x="5243" y="10396"/>
                  <a:pt x="4961" y="10468"/>
                </a:cubicBezTo>
                <a:cubicBezTo>
                  <a:pt x="4925" y="10477"/>
                  <a:pt x="4900" y="10483"/>
                  <a:pt x="4862" y="10492"/>
                </a:cubicBezTo>
                <a:cubicBezTo>
                  <a:pt x="4854" y="10492"/>
                  <a:pt x="4845" y="10492"/>
                  <a:pt x="4837" y="10492"/>
                </a:cubicBezTo>
                <a:cubicBezTo>
                  <a:pt x="4857" y="10448"/>
                  <a:pt x="4848" y="10437"/>
                  <a:pt x="4887" y="10393"/>
                </a:cubicBezTo>
                <a:cubicBezTo>
                  <a:pt x="4935" y="10339"/>
                  <a:pt x="4977" y="10279"/>
                  <a:pt x="5035" y="10244"/>
                </a:cubicBezTo>
                <a:cubicBezTo>
                  <a:pt x="5135" y="10183"/>
                  <a:pt x="5257" y="10235"/>
                  <a:pt x="5358" y="10244"/>
                </a:cubicBezTo>
                <a:cubicBezTo>
                  <a:pt x="5468" y="10254"/>
                  <a:pt x="5537" y="10262"/>
                  <a:pt x="5631" y="10319"/>
                </a:cubicBezTo>
                <a:cubicBezTo>
                  <a:pt x="5639" y="10327"/>
                  <a:pt x="5647" y="10336"/>
                  <a:pt x="5655" y="10344"/>
                </a:cubicBezTo>
                <a:cubicBezTo>
                  <a:pt x="5582" y="10392"/>
                  <a:pt x="5512" y="10431"/>
                  <a:pt x="5432" y="10468"/>
                </a:cubicBezTo>
                <a:cubicBezTo>
                  <a:pt x="5307" y="10526"/>
                  <a:pt x="5177" y="10545"/>
                  <a:pt x="5060" y="10616"/>
                </a:cubicBezTo>
                <a:cubicBezTo>
                  <a:pt x="5003" y="10651"/>
                  <a:pt x="4996" y="10678"/>
                  <a:pt x="4961" y="10716"/>
                </a:cubicBezTo>
                <a:cubicBezTo>
                  <a:pt x="5105" y="10716"/>
                  <a:pt x="5241" y="10717"/>
                  <a:pt x="5383" y="10691"/>
                </a:cubicBezTo>
                <a:cubicBezTo>
                  <a:pt x="5549" y="10661"/>
                  <a:pt x="5711" y="10621"/>
                  <a:pt x="5879" y="10616"/>
                </a:cubicBezTo>
                <a:cubicBezTo>
                  <a:pt x="5943" y="10614"/>
                  <a:pt x="5980" y="10633"/>
                  <a:pt x="6003" y="10641"/>
                </a:cubicBezTo>
                <a:cubicBezTo>
                  <a:pt x="5878" y="10668"/>
                  <a:pt x="5765" y="10688"/>
                  <a:pt x="5631" y="10691"/>
                </a:cubicBezTo>
                <a:cubicBezTo>
                  <a:pt x="5490" y="10694"/>
                  <a:pt x="5364" y="10677"/>
                  <a:pt x="5234" y="10740"/>
                </a:cubicBezTo>
                <a:cubicBezTo>
                  <a:pt x="5193" y="10760"/>
                  <a:pt x="5177" y="10758"/>
                  <a:pt x="5184" y="10790"/>
                </a:cubicBezTo>
                <a:cubicBezTo>
                  <a:pt x="5282" y="10835"/>
                  <a:pt x="5339" y="10840"/>
                  <a:pt x="5457" y="10840"/>
                </a:cubicBezTo>
                <a:cubicBezTo>
                  <a:pt x="5624" y="10840"/>
                  <a:pt x="5785" y="10815"/>
                  <a:pt x="5953" y="10815"/>
                </a:cubicBezTo>
                <a:cubicBezTo>
                  <a:pt x="6003" y="10815"/>
                  <a:pt x="6052" y="10815"/>
                  <a:pt x="6102" y="10815"/>
                </a:cubicBezTo>
                <a:cubicBezTo>
                  <a:pt x="5992" y="10836"/>
                  <a:pt x="5895" y="10840"/>
                  <a:pt x="5779" y="10840"/>
                </a:cubicBezTo>
                <a:cubicBezTo>
                  <a:pt x="5574" y="10840"/>
                  <a:pt x="5360" y="10850"/>
                  <a:pt x="5159" y="10889"/>
                </a:cubicBezTo>
                <a:cubicBezTo>
                  <a:pt x="5052" y="10910"/>
                  <a:pt x="4988" y="10986"/>
                  <a:pt x="4887" y="11013"/>
                </a:cubicBezTo>
                <a:cubicBezTo>
                  <a:pt x="4838" y="11026"/>
                  <a:pt x="4764" y="11013"/>
                  <a:pt x="4713" y="11013"/>
                </a:cubicBezTo>
                <a:cubicBezTo>
                  <a:pt x="4746" y="11018"/>
                  <a:pt x="4733" y="10997"/>
                  <a:pt x="4762" y="11013"/>
                </a:cubicBezTo>
                <a:cubicBezTo>
                  <a:pt x="4794" y="11031"/>
                  <a:pt x="4757" y="11042"/>
                  <a:pt x="4787" y="11063"/>
                </a:cubicBezTo>
                <a:cubicBezTo>
                  <a:pt x="4798" y="11071"/>
                  <a:pt x="4830" y="11105"/>
                  <a:pt x="4862" y="11112"/>
                </a:cubicBezTo>
                <a:cubicBezTo>
                  <a:pt x="5048" y="11152"/>
                  <a:pt x="5289" y="11055"/>
                  <a:pt x="5457" y="11137"/>
                </a:cubicBezTo>
                <a:cubicBezTo>
                  <a:pt x="5504" y="11160"/>
                  <a:pt x="5532" y="11169"/>
                  <a:pt x="5581" y="11187"/>
                </a:cubicBezTo>
                <a:cubicBezTo>
                  <a:pt x="5632" y="11206"/>
                  <a:pt x="5668" y="11210"/>
                  <a:pt x="5730" y="11212"/>
                </a:cubicBezTo>
                <a:cubicBezTo>
                  <a:pt x="5808" y="11215"/>
                  <a:pt x="5881" y="11230"/>
                  <a:pt x="5953" y="11237"/>
                </a:cubicBezTo>
                <a:cubicBezTo>
                  <a:pt x="6043" y="11246"/>
                  <a:pt x="6128" y="11220"/>
                  <a:pt x="6201" y="11212"/>
                </a:cubicBezTo>
                <a:cubicBezTo>
                  <a:pt x="6238" y="11208"/>
                  <a:pt x="6274" y="11191"/>
                  <a:pt x="6300" y="11187"/>
                </a:cubicBezTo>
                <a:cubicBezTo>
                  <a:pt x="6361" y="11178"/>
                  <a:pt x="6504" y="11173"/>
                  <a:pt x="6524" y="11212"/>
                </a:cubicBezTo>
                <a:cubicBezTo>
                  <a:pt x="6550" y="11264"/>
                  <a:pt x="6495" y="11309"/>
                  <a:pt x="6548" y="11336"/>
                </a:cubicBezTo>
                <a:cubicBezTo>
                  <a:pt x="6590" y="11357"/>
                  <a:pt x="6621" y="11314"/>
                  <a:pt x="6648" y="11311"/>
                </a:cubicBezTo>
                <a:cubicBezTo>
                  <a:pt x="6664" y="11311"/>
                  <a:pt x="6681" y="11311"/>
                  <a:pt x="6697" y="11311"/>
                </a:cubicBezTo>
                <a:cubicBezTo>
                  <a:pt x="6722" y="11311"/>
                  <a:pt x="6730" y="11311"/>
                  <a:pt x="6747" y="11311"/>
                </a:cubicBezTo>
                <a:cubicBezTo>
                  <a:pt x="6710" y="11293"/>
                  <a:pt x="6690" y="11268"/>
                  <a:pt x="6648" y="11261"/>
                </a:cubicBezTo>
                <a:cubicBezTo>
                  <a:pt x="6436" y="11227"/>
                  <a:pt x="6188" y="11254"/>
                  <a:pt x="5978" y="11237"/>
                </a:cubicBezTo>
                <a:cubicBezTo>
                  <a:pt x="5845" y="11226"/>
                  <a:pt x="5712" y="11226"/>
                  <a:pt x="5581" y="11212"/>
                </a:cubicBezTo>
                <a:cubicBezTo>
                  <a:pt x="5496" y="11203"/>
                  <a:pt x="5430" y="11248"/>
                  <a:pt x="5358" y="11286"/>
                </a:cubicBezTo>
                <a:cubicBezTo>
                  <a:pt x="5284" y="11325"/>
                  <a:pt x="5269" y="11330"/>
                  <a:pt x="5184" y="11336"/>
                </a:cubicBezTo>
                <a:cubicBezTo>
                  <a:pt x="5004" y="11348"/>
                  <a:pt x="4819" y="11336"/>
                  <a:pt x="4638" y="11336"/>
                </a:cubicBezTo>
                <a:cubicBezTo>
                  <a:pt x="4637" y="11337"/>
                  <a:pt x="4564" y="11378"/>
                  <a:pt x="4614" y="11361"/>
                </a:cubicBezTo>
                <a:cubicBezTo>
                  <a:pt x="4663" y="11345"/>
                  <a:pt x="4679" y="11338"/>
                  <a:pt x="4738" y="11336"/>
                </a:cubicBezTo>
                <a:cubicBezTo>
                  <a:pt x="4837" y="11333"/>
                  <a:pt x="4915" y="11331"/>
                  <a:pt x="5011" y="11311"/>
                </a:cubicBezTo>
                <a:cubicBezTo>
                  <a:pt x="5129" y="11286"/>
                  <a:pt x="5235" y="11261"/>
                  <a:pt x="5358" y="11261"/>
                </a:cubicBezTo>
                <a:cubicBezTo>
                  <a:pt x="5463" y="11261"/>
                  <a:pt x="5555" y="11246"/>
                  <a:pt x="5655" y="11237"/>
                </a:cubicBezTo>
                <a:cubicBezTo>
                  <a:pt x="5738" y="11230"/>
                  <a:pt x="5808" y="11233"/>
                  <a:pt x="5879" y="11212"/>
                </a:cubicBezTo>
                <a:cubicBezTo>
                  <a:pt x="5944" y="11193"/>
                  <a:pt x="5950" y="11186"/>
                  <a:pt x="6003" y="11137"/>
                </a:cubicBezTo>
                <a:cubicBezTo>
                  <a:pt x="6044" y="11099"/>
                  <a:pt x="6079" y="11051"/>
                  <a:pt x="6127" y="11013"/>
                </a:cubicBezTo>
                <a:cubicBezTo>
                  <a:pt x="6174" y="10976"/>
                  <a:pt x="6230" y="10953"/>
                  <a:pt x="6276" y="10914"/>
                </a:cubicBezTo>
                <a:cubicBezTo>
                  <a:pt x="6327" y="10871"/>
                  <a:pt x="6376" y="10823"/>
                  <a:pt x="6424" y="10790"/>
                </a:cubicBezTo>
                <a:cubicBezTo>
                  <a:pt x="6466" y="10761"/>
                  <a:pt x="6507" y="10740"/>
                  <a:pt x="6548" y="10716"/>
                </a:cubicBezTo>
                <a:cubicBezTo>
                  <a:pt x="6516" y="10721"/>
                  <a:pt x="6483" y="10771"/>
                  <a:pt x="6474" y="10740"/>
                </a:cubicBezTo>
                <a:cubicBezTo>
                  <a:pt x="6470" y="10727"/>
                  <a:pt x="6522" y="10637"/>
                  <a:pt x="6524" y="10616"/>
                </a:cubicBezTo>
                <a:cubicBezTo>
                  <a:pt x="6530" y="10564"/>
                  <a:pt x="6535" y="10536"/>
                  <a:pt x="6548" y="10492"/>
                </a:cubicBezTo>
                <a:cubicBezTo>
                  <a:pt x="6559" y="10456"/>
                  <a:pt x="6556" y="10425"/>
                  <a:pt x="6573" y="10393"/>
                </a:cubicBezTo>
                <a:cubicBezTo>
                  <a:pt x="6592" y="10356"/>
                  <a:pt x="6621" y="10332"/>
                  <a:pt x="6648" y="10294"/>
                </a:cubicBezTo>
                <a:cubicBezTo>
                  <a:pt x="6687" y="10238"/>
                  <a:pt x="6723" y="10196"/>
                  <a:pt x="6772" y="10145"/>
                </a:cubicBezTo>
                <a:cubicBezTo>
                  <a:pt x="6803" y="10112"/>
                  <a:pt x="6805" y="10099"/>
                  <a:pt x="6821" y="10071"/>
                </a:cubicBezTo>
                <a:cubicBezTo>
                  <a:pt x="6828" y="10059"/>
                  <a:pt x="6833" y="10023"/>
                  <a:pt x="6846" y="9996"/>
                </a:cubicBezTo>
                <a:cubicBezTo>
                  <a:pt x="6864" y="9959"/>
                  <a:pt x="6883" y="9936"/>
                  <a:pt x="6896" y="9897"/>
                </a:cubicBezTo>
                <a:cubicBezTo>
                  <a:pt x="6907" y="9866"/>
                  <a:pt x="6938" y="9825"/>
                  <a:pt x="6945" y="9798"/>
                </a:cubicBezTo>
                <a:cubicBezTo>
                  <a:pt x="6956" y="9755"/>
                  <a:pt x="6959" y="9743"/>
                  <a:pt x="6970" y="9723"/>
                </a:cubicBezTo>
                <a:cubicBezTo>
                  <a:pt x="6985" y="9695"/>
                  <a:pt x="6985" y="9682"/>
                  <a:pt x="7020" y="9674"/>
                </a:cubicBezTo>
                <a:cubicBezTo>
                  <a:pt x="7043" y="9669"/>
                  <a:pt x="7071" y="9676"/>
                  <a:pt x="7094" y="96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81120" y="3483000"/>
            <a:ext cx="1670040" cy="633240"/>
          </a:xfrm>
          <a:custGeom>
            <a:avLst/>
            <a:gdLst/>
            <a:ahLst/>
            <a:rect l="l" t="t" r="r" b="b"/>
            <a:pathLst>
              <a:path w="4640" h="1762">
                <a:moveTo>
                  <a:pt x="9029" y="9723"/>
                </a:moveTo>
                <a:cubicBezTo>
                  <a:pt x="8975" y="9727"/>
                  <a:pt x="8872" y="9746"/>
                  <a:pt x="8855" y="9748"/>
                </a:cubicBezTo>
                <a:cubicBezTo>
                  <a:pt x="8796" y="9753"/>
                  <a:pt x="8728" y="9768"/>
                  <a:pt x="8682" y="9773"/>
                </a:cubicBezTo>
                <a:cubicBezTo>
                  <a:pt x="8642" y="9778"/>
                  <a:pt x="8586" y="9795"/>
                  <a:pt x="8558" y="9798"/>
                </a:cubicBezTo>
                <a:cubicBezTo>
                  <a:pt x="8412" y="9812"/>
                  <a:pt x="8216" y="9783"/>
                  <a:pt x="8111" y="9773"/>
                </a:cubicBezTo>
                <a:cubicBezTo>
                  <a:pt x="8068" y="9769"/>
                  <a:pt x="8019" y="9752"/>
                  <a:pt x="7987" y="9748"/>
                </a:cubicBezTo>
                <a:cubicBezTo>
                  <a:pt x="7914" y="9740"/>
                  <a:pt x="7771" y="9720"/>
                  <a:pt x="7714" y="9723"/>
                </a:cubicBezTo>
                <a:cubicBezTo>
                  <a:pt x="7681" y="9725"/>
                  <a:pt x="7635" y="9747"/>
                  <a:pt x="7615" y="9748"/>
                </a:cubicBezTo>
                <a:cubicBezTo>
                  <a:pt x="7516" y="9753"/>
                  <a:pt x="7427" y="9742"/>
                  <a:pt x="7342" y="9773"/>
                </a:cubicBezTo>
                <a:cubicBezTo>
                  <a:pt x="7306" y="9786"/>
                  <a:pt x="7282" y="9812"/>
                  <a:pt x="7243" y="9823"/>
                </a:cubicBezTo>
                <a:cubicBezTo>
                  <a:pt x="7192" y="9838"/>
                  <a:pt x="7147" y="9834"/>
                  <a:pt x="7094" y="9847"/>
                </a:cubicBezTo>
                <a:cubicBezTo>
                  <a:pt x="7047" y="9859"/>
                  <a:pt x="7016" y="9861"/>
                  <a:pt x="6970" y="9872"/>
                </a:cubicBezTo>
                <a:cubicBezTo>
                  <a:pt x="6931" y="9881"/>
                  <a:pt x="6906" y="9883"/>
                  <a:pt x="6871" y="9897"/>
                </a:cubicBezTo>
                <a:cubicBezTo>
                  <a:pt x="6838" y="9910"/>
                  <a:pt x="6804" y="9936"/>
                  <a:pt x="6772" y="9947"/>
                </a:cubicBezTo>
                <a:cubicBezTo>
                  <a:pt x="6738" y="9958"/>
                  <a:pt x="6705" y="9962"/>
                  <a:pt x="6672" y="9971"/>
                </a:cubicBezTo>
                <a:cubicBezTo>
                  <a:pt x="6652" y="9977"/>
                  <a:pt x="6584" y="9995"/>
                  <a:pt x="6573" y="9996"/>
                </a:cubicBezTo>
                <a:cubicBezTo>
                  <a:pt x="6517" y="10002"/>
                  <a:pt x="6500" y="9986"/>
                  <a:pt x="6474" y="10021"/>
                </a:cubicBezTo>
                <a:cubicBezTo>
                  <a:pt x="6439" y="10067"/>
                  <a:pt x="6462" y="10089"/>
                  <a:pt x="6449" y="10145"/>
                </a:cubicBezTo>
                <a:cubicBezTo>
                  <a:pt x="6441" y="10180"/>
                  <a:pt x="6428" y="10200"/>
                  <a:pt x="6424" y="10244"/>
                </a:cubicBezTo>
                <a:cubicBezTo>
                  <a:pt x="6420" y="10297"/>
                  <a:pt x="6447" y="10332"/>
                  <a:pt x="6449" y="10368"/>
                </a:cubicBezTo>
                <a:cubicBezTo>
                  <a:pt x="6451" y="10414"/>
                  <a:pt x="6470" y="10459"/>
                  <a:pt x="6474" y="10492"/>
                </a:cubicBezTo>
                <a:cubicBezTo>
                  <a:pt x="6483" y="10575"/>
                  <a:pt x="6455" y="10650"/>
                  <a:pt x="6449" y="10716"/>
                </a:cubicBezTo>
                <a:cubicBezTo>
                  <a:pt x="6445" y="10760"/>
                  <a:pt x="6428" y="10808"/>
                  <a:pt x="6424" y="10840"/>
                </a:cubicBezTo>
                <a:cubicBezTo>
                  <a:pt x="6418" y="10897"/>
                  <a:pt x="6405" y="10967"/>
                  <a:pt x="6400" y="11013"/>
                </a:cubicBezTo>
                <a:cubicBezTo>
                  <a:pt x="6394" y="11069"/>
                  <a:pt x="6396" y="11089"/>
                  <a:pt x="6375" y="11137"/>
                </a:cubicBezTo>
                <a:cubicBezTo>
                  <a:pt x="6367" y="11145"/>
                  <a:pt x="6358" y="11154"/>
                  <a:pt x="6350" y="11162"/>
                </a:cubicBezTo>
                <a:cubicBezTo>
                  <a:pt x="6371" y="11141"/>
                  <a:pt x="6384" y="11083"/>
                  <a:pt x="6424" y="11063"/>
                </a:cubicBezTo>
                <a:cubicBezTo>
                  <a:pt x="6483" y="11032"/>
                  <a:pt x="6580" y="11040"/>
                  <a:pt x="6648" y="11038"/>
                </a:cubicBezTo>
                <a:cubicBezTo>
                  <a:pt x="6697" y="11037"/>
                  <a:pt x="6747" y="11038"/>
                  <a:pt x="6796" y="11038"/>
                </a:cubicBezTo>
                <a:cubicBezTo>
                  <a:pt x="6770" y="11014"/>
                  <a:pt x="6733" y="11004"/>
                  <a:pt x="6722" y="10988"/>
                </a:cubicBezTo>
                <a:cubicBezTo>
                  <a:pt x="6712" y="10974"/>
                  <a:pt x="6710" y="10927"/>
                  <a:pt x="6697" y="10914"/>
                </a:cubicBezTo>
                <a:cubicBezTo>
                  <a:pt x="6658" y="10875"/>
                  <a:pt x="6684" y="10862"/>
                  <a:pt x="6623" y="10864"/>
                </a:cubicBezTo>
                <a:cubicBezTo>
                  <a:pt x="6588" y="10865"/>
                  <a:pt x="6549" y="10890"/>
                  <a:pt x="6524" y="10914"/>
                </a:cubicBezTo>
                <a:cubicBezTo>
                  <a:pt x="6493" y="10943"/>
                  <a:pt x="6489" y="10978"/>
                  <a:pt x="6474" y="11013"/>
                </a:cubicBezTo>
                <a:cubicBezTo>
                  <a:pt x="6461" y="11042"/>
                  <a:pt x="6463" y="11084"/>
                  <a:pt x="6449" y="11112"/>
                </a:cubicBezTo>
                <a:cubicBezTo>
                  <a:pt x="6433" y="11146"/>
                  <a:pt x="6411" y="11171"/>
                  <a:pt x="6400" y="11187"/>
                </a:cubicBezTo>
                <a:cubicBezTo>
                  <a:pt x="6379" y="11216"/>
                  <a:pt x="6387" y="11221"/>
                  <a:pt x="6350" y="11237"/>
                </a:cubicBezTo>
                <a:cubicBezTo>
                  <a:pt x="6313" y="11253"/>
                  <a:pt x="6266" y="11252"/>
                  <a:pt x="6226" y="11261"/>
                </a:cubicBezTo>
                <a:cubicBezTo>
                  <a:pt x="6177" y="11272"/>
                  <a:pt x="6126" y="11275"/>
                  <a:pt x="6077" y="11286"/>
                </a:cubicBezTo>
                <a:cubicBezTo>
                  <a:pt x="6042" y="11294"/>
                  <a:pt x="5996" y="11303"/>
                  <a:pt x="5953" y="11311"/>
                </a:cubicBezTo>
                <a:cubicBezTo>
                  <a:pt x="5921" y="11317"/>
                  <a:pt x="5896" y="11332"/>
                  <a:pt x="5854" y="11336"/>
                </a:cubicBezTo>
                <a:cubicBezTo>
                  <a:pt x="5759" y="11344"/>
                  <a:pt x="5662" y="11321"/>
                  <a:pt x="5581" y="11361"/>
                </a:cubicBezTo>
                <a:cubicBezTo>
                  <a:pt x="5564" y="11369"/>
                  <a:pt x="5529" y="11398"/>
                  <a:pt x="5507" y="11410"/>
                </a:cubicBezTo>
                <a:cubicBezTo>
                  <a:pt x="5479" y="11426"/>
                  <a:pt x="5449" y="11426"/>
                  <a:pt x="5482" y="11435"/>
                </a:cubicBezTo>
                <a:cubicBezTo>
                  <a:pt x="5554" y="11456"/>
                  <a:pt x="5648" y="11421"/>
                  <a:pt x="5705" y="11410"/>
                </a:cubicBezTo>
                <a:cubicBezTo>
                  <a:pt x="5761" y="11400"/>
                  <a:pt x="5794" y="11392"/>
                  <a:pt x="5854" y="11385"/>
                </a:cubicBezTo>
                <a:cubicBezTo>
                  <a:pt x="6096" y="11359"/>
                  <a:pt x="6354" y="11385"/>
                  <a:pt x="6598" y="11385"/>
                </a:cubicBezTo>
                <a:cubicBezTo>
                  <a:pt x="6556" y="11355"/>
                  <a:pt x="6542" y="11332"/>
                  <a:pt x="6474" y="11311"/>
                </a:cubicBezTo>
                <a:cubicBezTo>
                  <a:pt x="6271" y="11247"/>
                  <a:pt x="6032" y="11232"/>
                  <a:pt x="5854" y="11112"/>
                </a:cubicBezTo>
                <a:cubicBezTo>
                  <a:pt x="5819" y="11089"/>
                  <a:pt x="5785" y="11052"/>
                  <a:pt x="5779" y="11013"/>
                </a:cubicBezTo>
                <a:cubicBezTo>
                  <a:pt x="5771" y="10955"/>
                  <a:pt x="5804" y="10957"/>
                  <a:pt x="5829" y="10914"/>
                </a:cubicBezTo>
                <a:cubicBezTo>
                  <a:pt x="5846" y="10885"/>
                  <a:pt x="5890" y="10841"/>
                  <a:pt x="5928" y="10815"/>
                </a:cubicBezTo>
                <a:cubicBezTo>
                  <a:pt x="5965" y="10790"/>
                  <a:pt x="6015" y="10771"/>
                  <a:pt x="6052" y="10740"/>
                </a:cubicBezTo>
                <a:cubicBezTo>
                  <a:pt x="6073" y="10723"/>
                  <a:pt x="6122" y="10673"/>
                  <a:pt x="6152" y="10641"/>
                </a:cubicBezTo>
                <a:cubicBezTo>
                  <a:pt x="6186" y="10605"/>
                  <a:pt x="6196" y="10575"/>
                  <a:pt x="6226" y="10542"/>
                </a:cubicBezTo>
                <a:cubicBezTo>
                  <a:pt x="6259" y="10507"/>
                  <a:pt x="6279" y="10477"/>
                  <a:pt x="6300" y="10443"/>
                </a:cubicBezTo>
                <a:cubicBezTo>
                  <a:pt x="6320" y="10411"/>
                  <a:pt x="6332" y="10374"/>
                  <a:pt x="6350" y="10344"/>
                </a:cubicBezTo>
                <a:cubicBezTo>
                  <a:pt x="6366" y="10318"/>
                  <a:pt x="6382" y="10308"/>
                  <a:pt x="6400" y="10269"/>
                </a:cubicBezTo>
                <a:cubicBezTo>
                  <a:pt x="6417" y="10233"/>
                  <a:pt x="6421" y="10182"/>
                  <a:pt x="6449" y="10145"/>
                </a:cubicBezTo>
                <a:cubicBezTo>
                  <a:pt x="6485" y="10098"/>
                  <a:pt x="6540" y="10033"/>
                  <a:pt x="6573" y="9996"/>
                </a:cubicBezTo>
                <a:cubicBezTo>
                  <a:pt x="6594" y="9972"/>
                  <a:pt x="6637" y="9930"/>
                  <a:pt x="6648" y="9922"/>
                </a:cubicBezTo>
                <a:cubicBezTo>
                  <a:pt x="6677" y="9901"/>
                  <a:pt x="6748" y="9891"/>
                  <a:pt x="6772" y="9872"/>
                </a:cubicBezTo>
                <a:cubicBezTo>
                  <a:pt x="6799" y="9851"/>
                  <a:pt x="6820" y="9820"/>
                  <a:pt x="6846" y="9798"/>
                </a:cubicBezTo>
                <a:cubicBezTo>
                  <a:pt x="6811" y="9789"/>
                  <a:pt x="6784" y="9782"/>
                  <a:pt x="6747" y="9773"/>
                </a:cubicBezTo>
                <a:cubicBezTo>
                  <a:pt x="6711" y="9764"/>
                  <a:pt x="6659" y="9747"/>
                  <a:pt x="6623" y="9748"/>
                </a:cubicBezTo>
                <a:cubicBezTo>
                  <a:pt x="6566" y="9749"/>
                  <a:pt x="6527" y="9763"/>
                  <a:pt x="6474" y="9773"/>
                </a:cubicBezTo>
                <a:cubicBezTo>
                  <a:pt x="6434" y="9780"/>
                  <a:pt x="6390" y="9788"/>
                  <a:pt x="6350" y="9798"/>
                </a:cubicBezTo>
                <a:cubicBezTo>
                  <a:pt x="6300" y="9811"/>
                  <a:pt x="6262" y="9820"/>
                  <a:pt x="6201" y="9823"/>
                </a:cubicBezTo>
                <a:cubicBezTo>
                  <a:pt x="6146" y="9825"/>
                  <a:pt x="6091" y="9801"/>
                  <a:pt x="6052" y="9798"/>
                </a:cubicBezTo>
                <a:cubicBezTo>
                  <a:pt x="6001" y="9794"/>
                  <a:pt x="5961" y="9821"/>
                  <a:pt x="5928" y="9823"/>
                </a:cubicBezTo>
                <a:cubicBezTo>
                  <a:pt x="5838" y="9828"/>
                  <a:pt x="5765" y="9805"/>
                  <a:pt x="5680" y="9798"/>
                </a:cubicBezTo>
                <a:cubicBezTo>
                  <a:pt x="5597" y="9791"/>
                  <a:pt x="5509" y="9779"/>
                  <a:pt x="5432" y="9773"/>
                </a:cubicBezTo>
                <a:cubicBezTo>
                  <a:pt x="5370" y="9768"/>
                  <a:pt x="5334" y="9761"/>
                  <a:pt x="5283" y="9748"/>
                </a:cubicBezTo>
                <a:cubicBezTo>
                  <a:pt x="5250" y="9740"/>
                  <a:pt x="5211" y="9730"/>
                  <a:pt x="5184" y="9723"/>
                </a:cubicBezTo>
                <a:cubicBezTo>
                  <a:pt x="5143" y="9713"/>
                  <a:pt x="5100" y="9709"/>
                  <a:pt x="5060" y="9699"/>
                </a:cubicBezTo>
                <a:cubicBezTo>
                  <a:pt x="5025" y="9690"/>
                  <a:pt x="5004" y="9679"/>
                  <a:pt x="4961" y="9674"/>
                </a:cubicBezTo>
                <a:cubicBezTo>
                  <a:pt x="4819" y="9658"/>
                  <a:pt x="4665" y="9688"/>
                  <a:pt x="4539" y="9699"/>
                </a:cubicBezTo>
                <a:cubicBezTo>
                  <a:pt x="4484" y="9704"/>
                  <a:pt x="4467" y="9706"/>
                  <a:pt x="4440" y="9723"/>
                </a:cubicBezTo>
                <a:cubicBezTo>
                  <a:pt x="4410" y="9741"/>
                  <a:pt x="4402" y="9737"/>
                  <a:pt x="4390" y="9773"/>
                </a:cubicBezTo>
                <a:cubicBezTo>
                  <a:pt x="4398" y="9781"/>
                  <a:pt x="4407" y="9790"/>
                  <a:pt x="4415" y="979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920" y="503712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6970" y="14238"/>
                </a:moveTo>
                <a:cubicBezTo>
                  <a:pt x="7030" y="14238"/>
                  <a:pt x="7019" y="14229"/>
                  <a:pt x="7045" y="14188"/>
                </a:cubicBezTo>
                <a:cubicBezTo>
                  <a:pt x="7062" y="14161"/>
                  <a:pt x="7114" y="14123"/>
                  <a:pt x="7119" y="14114"/>
                </a:cubicBezTo>
                <a:cubicBezTo>
                  <a:pt x="7144" y="14064"/>
                  <a:pt x="7118" y="14072"/>
                  <a:pt x="7169" y="14039"/>
                </a:cubicBezTo>
                <a:cubicBezTo>
                  <a:pt x="7215" y="14009"/>
                  <a:pt x="7210" y="13990"/>
                  <a:pt x="7268" y="13990"/>
                </a:cubicBezTo>
                <a:cubicBezTo>
                  <a:pt x="7299" y="13990"/>
                  <a:pt x="7333" y="13998"/>
                  <a:pt x="7342" y="14015"/>
                </a:cubicBezTo>
                <a:cubicBezTo>
                  <a:pt x="7358" y="14047"/>
                  <a:pt x="7367" y="14039"/>
                  <a:pt x="7367" y="14089"/>
                </a:cubicBezTo>
                <a:cubicBezTo>
                  <a:pt x="7367" y="14156"/>
                  <a:pt x="7359" y="14204"/>
                  <a:pt x="7342" y="14238"/>
                </a:cubicBezTo>
                <a:cubicBezTo>
                  <a:pt x="7326" y="14271"/>
                  <a:pt x="7328" y="14353"/>
                  <a:pt x="7317" y="14387"/>
                </a:cubicBezTo>
                <a:cubicBezTo>
                  <a:pt x="7306" y="14421"/>
                  <a:pt x="7283" y="14417"/>
                  <a:pt x="7268" y="14461"/>
                </a:cubicBezTo>
                <a:cubicBezTo>
                  <a:pt x="7259" y="14488"/>
                  <a:pt x="7250" y="14507"/>
                  <a:pt x="7218" y="14511"/>
                </a:cubicBezTo>
                <a:cubicBezTo>
                  <a:pt x="7172" y="14517"/>
                  <a:pt x="7160" y="14491"/>
                  <a:pt x="7119" y="14486"/>
                </a:cubicBezTo>
                <a:cubicBezTo>
                  <a:pt x="7113" y="14485"/>
                  <a:pt x="7021" y="14463"/>
                  <a:pt x="7020" y="14461"/>
                </a:cubicBezTo>
                <a:cubicBezTo>
                  <a:pt x="7005" y="14442"/>
                  <a:pt x="6974" y="14425"/>
                  <a:pt x="6970" y="14387"/>
                </a:cubicBezTo>
                <a:cubicBezTo>
                  <a:pt x="6964" y="14331"/>
                  <a:pt x="6983" y="14311"/>
                  <a:pt x="6995" y="14288"/>
                </a:cubicBezTo>
                <a:cubicBezTo>
                  <a:pt x="7006" y="14266"/>
                  <a:pt x="7017" y="14219"/>
                  <a:pt x="7020" y="14213"/>
                </a:cubicBezTo>
                <a:cubicBezTo>
                  <a:pt x="7028" y="14196"/>
                  <a:pt x="7040" y="14153"/>
                  <a:pt x="7069" y="14139"/>
                </a:cubicBezTo>
                <a:cubicBezTo>
                  <a:pt x="7094" y="14127"/>
                  <a:pt x="7103" y="14097"/>
                  <a:pt x="7119" y="14089"/>
                </a:cubicBezTo>
                <a:cubicBezTo>
                  <a:pt x="7147" y="14075"/>
                  <a:pt x="7160" y="14048"/>
                  <a:pt x="7193" y="1401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03240" y="6107040"/>
            <a:ext cx="1455840" cy="420840"/>
          </a:xfrm>
          <a:custGeom>
            <a:avLst/>
            <a:gdLst/>
            <a:ahLst/>
            <a:rect l="l" t="t" r="r" b="b"/>
            <a:pathLst>
              <a:path w="4044" h="1167">
                <a:moveTo>
                  <a:pt x="9054" y="17611"/>
                </a:moveTo>
                <a:cubicBezTo>
                  <a:pt x="9038" y="17595"/>
                  <a:pt x="9020" y="17578"/>
                  <a:pt x="9004" y="17562"/>
                </a:cubicBezTo>
                <a:cubicBezTo>
                  <a:pt x="8981" y="17539"/>
                  <a:pt x="8960" y="17529"/>
                  <a:pt x="8930" y="17512"/>
                </a:cubicBezTo>
                <a:cubicBezTo>
                  <a:pt x="8898" y="17493"/>
                  <a:pt x="8869" y="17449"/>
                  <a:pt x="8855" y="17438"/>
                </a:cubicBezTo>
                <a:cubicBezTo>
                  <a:pt x="8835" y="17422"/>
                  <a:pt x="8784" y="17380"/>
                  <a:pt x="8756" y="17363"/>
                </a:cubicBezTo>
                <a:cubicBezTo>
                  <a:pt x="8752" y="17361"/>
                  <a:pt x="8695" y="17347"/>
                  <a:pt x="8682" y="17338"/>
                </a:cubicBezTo>
                <a:cubicBezTo>
                  <a:pt x="8672" y="17331"/>
                  <a:pt x="8639" y="17268"/>
                  <a:pt x="8632" y="17264"/>
                </a:cubicBezTo>
                <a:cubicBezTo>
                  <a:pt x="8618" y="17257"/>
                  <a:pt x="8571" y="17251"/>
                  <a:pt x="8558" y="17239"/>
                </a:cubicBezTo>
                <a:cubicBezTo>
                  <a:pt x="8540" y="17222"/>
                  <a:pt x="8543" y="17185"/>
                  <a:pt x="8508" y="17165"/>
                </a:cubicBezTo>
                <a:cubicBezTo>
                  <a:pt x="8475" y="17146"/>
                  <a:pt x="8461" y="17159"/>
                  <a:pt x="8434" y="17140"/>
                </a:cubicBezTo>
                <a:cubicBezTo>
                  <a:pt x="8415" y="17126"/>
                  <a:pt x="8398" y="17105"/>
                  <a:pt x="8359" y="17090"/>
                </a:cubicBezTo>
                <a:cubicBezTo>
                  <a:pt x="8325" y="17077"/>
                  <a:pt x="8328" y="17080"/>
                  <a:pt x="8285" y="17066"/>
                </a:cubicBezTo>
                <a:cubicBezTo>
                  <a:pt x="8275" y="17063"/>
                  <a:pt x="8249" y="17046"/>
                  <a:pt x="8210" y="17041"/>
                </a:cubicBezTo>
                <a:cubicBezTo>
                  <a:pt x="8136" y="17032"/>
                  <a:pt x="8049" y="17057"/>
                  <a:pt x="8012" y="17066"/>
                </a:cubicBezTo>
                <a:cubicBezTo>
                  <a:pt x="7973" y="17075"/>
                  <a:pt x="7948" y="17078"/>
                  <a:pt x="7913" y="17090"/>
                </a:cubicBezTo>
                <a:cubicBezTo>
                  <a:pt x="7889" y="17098"/>
                  <a:pt x="7838" y="17115"/>
                  <a:pt x="7838" y="17115"/>
                </a:cubicBezTo>
                <a:cubicBezTo>
                  <a:pt x="7795" y="17129"/>
                  <a:pt x="7798" y="17129"/>
                  <a:pt x="7764" y="17140"/>
                </a:cubicBezTo>
                <a:cubicBezTo>
                  <a:pt x="7726" y="17153"/>
                  <a:pt x="7701" y="17174"/>
                  <a:pt x="7665" y="17190"/>
                </a:cubicBezTo>
                <a:cubicBezTo>
                  <a:pt x="7637" y="17202"/>
                  <a:pt x="7599" y="17234"/>
                  <a:pt x="7590" y="17239"/>
                </a:cubicBezTo>
                <a:cubicBezTo>
                  <a:pt x="7554" y="17257"/>
                  <a:pt x="7545" y="17247"/>
                  <a:pt x="7516" y="17264"/>
                </a:cubicBezTo>
                <a:cubicBezTo>
                  <a:pt x="7489" y="17279"/>
                  <a:pt x="7436" y="17301"/>
                  <a:pt x="7417" y="17314"/>
                </a:cubicBezTo>
                <a:cubicBezTo>
                  <a:pt x="7404" y="17324"/>
                  <a:pt x="7374" y="17359"/>
                  <a:pt x="7367" y="17363"/>
                </a:cubicBezTo>
                <a:cubicBezTo>
                  <a:pt x="7335" y="17379"/>
                  <a:pt x="7342" y="17388"/>
                  <a:pt x="7293" y="17388"/>
                </a:cubicBezTo>
                <a:cubicBezTo>
                  <a:pt x="7243" y="17388"/>
                  <a:pt x="7237" y="17371"/>
                  <a:pt x="7218" y="17363"/>
                </a:cubicBezTo>
                <a:cubicBezTo>
                  <a:pt x="7189" y="17350"/>
                  <a:pt x="7178" y="17344"/>
                  <a:pt x="7144" y="17314"/>
                </a:cubicBezTo>
                <a:cubicBezTo>
                  <a:pt x="7128" y="17300"/>
                  <a:pt x="7102" y="17262"/>
                  <a:pt x="7069" y="17239"/>
                </a:cubicBezTo>
                <a:cubicBezTo>
                  <a:pt x="7039" y="17218"/>
                  <a:pt x="6988" y="17178"/>
                  <a:pt x="6970" y="17165"/>
                </a:cubicBezTo>
                <a:cubicBezTo>
                  <a:pt x="6933" y="17138"/>
                  <a:pt x="6888" y="17131"/>
                  <a:pt x="6846" y="17115"/>
                </a:cubicBezTo>
                <a:cubicBezTo>
                  <a:pt x="6800" y="17097"/>
                  <a:pt x="6767" y="17061"/>
                  <a:pt x="6722" y="17041"/>
                </a:cubicBezTo>
                <a:cubicBezTo>
                  <a:pt x="6686" y="17025"/>
                  <a:pt x="6677" y="17027"/>
                  <a:pt x="6648" y="17016"/>
                </a:cubicBezTo>
                <a:cubicBezTo>
                  <a:pt x="6614" y="17003"/>
                  <a:pt x="6616" y="17006"/>
                  <a:pt x="6573" y="16991"/>
                </a:cubicBezTo>
                <a:cubicBezTo>
                  <a:pt x="6543" y="16981"/>
                  <a:pt x="6504" y="16970"/>
                  <a:pt x="6474" y="16966"/>
                </a:cubicBezTo>
                <a:cubicBezTo>
                  <a:pt x="6352" y="16951"/>
                  <a:pt x="6209" y="16965"/>
                  <a:pt x="6102" y="16991"/>
                </a:cubicBezTo>
                <a:cubicBezTo>
                  <a:pt x="6078" y="16997"/>
                  <a:pt x="6018" y="17014"/>
                  <a:pt x="6003" y="17016"/>
                </a:cubicBezTo>
                <a:cubicBezTo>
                  <a:pt x="5945" y="17023"/>
                  <a:pt x="5825" y="17039"/>
                  <a:pt x="5804" y="17041"/>
                </a:cubicBezTo>
                <a:cubicBezTo>
                  <a:pt x="5729" y="17048"/>
                  <a:pt x="5670" y="17048"/>
                  <a:pt x="5606" y="17066"/>
                </a:cubicBezTo>
                <a:cubicBezTo>
                  <a:pt x="5562" y="17078"/>
                  <a:pt x="5562" y="17070"/>
                  <a:pt x="5531" y="17090"/>
                </a:cubicBezTo>
                <a:cubicBezTo>
                  <a:pt x="5501" y="17109"/>
                  <a:pt x="5481" y="17128"/>
                  <a:pt x="5457" y="17140"/>
                </a:cubicBezTo>
                <a:cubicBezTo>
                  <a:pt x="5410" y="17164"/>
                  <a:pt x="5381" y="17184"/>
                  <a:pt x="5333" y="17214"/>
                </a:cubicBezTo>
                <a:cubicBezTo>
                  <a:pt x="5301" y="17235"/>
                  <a:pt x="5274" y="17278"/>
                  <a:pt x="5259" y="17289"/>
                </a:cubicBezTo>
                <a:cubicBezTo>
                  <a:pt x="5237" y="17306"/>
                  <a:pt x="5220" y="17318"/>
                  <a:pt x="5184" y="17338"/>
                </a:cubicBezTo>
                <a:cubicBezTo>
                  <a:pt x="5149" y="17357"/>
                  <a:pt x="5138" y="17343"/>
                  <a:pt x="5110" y="17363"/>
                </a:cubicBezTo>
                <a:cubicBezTo>
                  <a:pt x="5087" y="17379"/>
                  <a:pt x="5058" y="17398"/>
                  <a:pt x="5035" y="17438"/>
                </a:cubicBezTo>
                <a:cubicBezTo>
                  <a:pt x="5017" y="17470"/>
                  <a:pt x="5019" y="17464"/>
                  <a:pt x="5011" y="17512"/>
                </a:cubicBezTo>
                <a:cubicBezTo>
                  <a:pt x="5001" y="17575"/>
                  <a:pt x="5018" y="17632"/>
                  <a:pt x="5035" y="17661"/>
                </a:cubicBezTo>
                <a:cubicBezTo>
                  <a:pt x="5047" y="17683"/>
                  <a:pt x="5051" y="17713"/>
                  <a:pt x="5085" y="17711"/>
                </a:cubicBezTo>
                <a:cubicBezTo>
                  <a:pt x="5150" y="17708"/>
                  <a:pt x="5114" y="17668"/>
                  <a:pt x="5159" y="17661"/>
                </a:cubicBezTo>
                <a:cubicBezTo>
                  <a:pt x="5220" y="17652"/>
                  <a:pt x="5309" y="17640"/>
                  <a:pt x="5358" y="17636"/>
                </a:cubicBezTo>
                <a:cubicBezTo>
                  <a:pt x="5432" y="17630"/>
                  <a:pt x="5486" y="17631"/>
                  <a:pt x="5556" y="17611"/>
                </a:cubicBezTo>
                <a:cubicBezTo>
                  <a:pt x="5599" y="17599"/>
                  <a:pt x="5669" y="17567"/>
                  <a:pt x="5705" y="17562"/>
                </a:cubicBezTo>
                <a:cubicBezTo>
                  <a:pt x="5795" y="17551"/>
                  <a:pt x="5867" y="17561"/>
                  <a:pt x="5953" y="17537"/>
                </a:cubicBezTo>
                <a:cubicBezTo>
                  <a:pt x="6012" y="17521"/>
                  <a:pt x="6068" y="17502"/>
                  <a:pt x="6127" y="17487"/>
                </a:cubicBezTo>
                <a:cubicBezTo>
                  <a:pt x="6193" y="17470"/>
                  <a:pt x="6257" y="17473"/>
                  <a:pt x="6325" y="17462"/>
                </a:cubicBezTo>
                <a:cubicBezTo>
                  <a:pt x="6380" y="17453"/>
                  <a:pt x="6454" y="17418"/>
                  <a:pt x="6499" y="17413"/>
                </a:cubicBezTo>
                <a:cubicBezTo>
                  <a:pt x="6574" y="17405"/>
                  <a:pt x="6629" y="17394"/>
                  <a:pt x="6697" y="17388"/>
                </a:cubicBezTo>
                <a:cubicBezTo>
                  <a:pt x="6809" y="17378"/>
                  <a:pt x="6917" y="17405"/>
                  <a:pt x="7020" y="17413"/>
                </a:cubicBezTo>
                <a:cubicBezTo>
                  <a:pt x="7209" y="17428"/>
                  <a:pt x="7408" y="17421"/>
                  <a:pt x="7590" y="17438"/>
                </a:cubicBezTo>
                <a:cubicBezTo>
                  <a:pt x="7655" y="17444"/>
                  <a:pt x="7709" y="17449"/>
                  <a:pt x="7764" y="17462"/>
                </a:cubicBezTo>
                <a:cubicBezTo>
                  <a:pt x="7819" y="17475"/>
                  <a:pt x="7883" y="17472"/>
                  <a:pt x="7938" y="17487"/>
                </a:cubicBezTo>
                <a:cubicBezTo>
                  <a:pt x="7988" y="17501"/>
                  <a:pt x="8025" y="17510"/>
                  <a:pt x="8086" y="17512"/>
                </a:cubicBezTo>
                <a:cubicBezTo>
                  <a:pt x="8237" y="17516"/>
                  <a:pt x="8397" y="17502"/>
                  <a:pt x="8533" y="17537"/>
                </a:cubicBezTo>
                <a:cubicBezTo>
                  <a:pt x="8580" y="17549"/>
                  <a:pt x="8571" y="17550"/>
                  <a:pt x="8607" y="17562"/>
                </a:cubicBezTo>
                <a:cubicBezTo>
                  <a:pt x="8639" y="17572"/>
                  <a:pt x="8649" y="17583"/>
                  <a:pt x="8682" y="17587"/>
                </a:cubicBezTo>
                <a:cubicBezTo>
                  <a:pt x="8733" y="17593"/>
                  <a:pt x="8784" y="17604"/>
                  <a:pt x="8806" y="17611"/>
                </a:cubicBezTo>
                <a:cubicBezTo>
                  <a:pt x="8843" y="17623"/>
                  <a:pt x="8859" y="17612"/>
                  <a:pt x="8880" y="17636"/>
                </a:cubicBezTo>
                <a:cubicBezTo>
                  <a:pt x="8902" y="17661"/>
                  <a:pt x="8897" y="17669"/>
                  <a:pt x="8905" y="17711"/>
                </a:cubicBezTo>
                <a:cubicBezTo>
                  <a:pt x="8917" y="17770"/>
                  <a:pt x="8894" y="17810"/>
                  <a:pt x="8880" y="17835"/>
                </a:cubicBezTo>
                <a:cubicBezTo>
                  <a:pt x="8862" y="17866"/>
                  <a:pt x="8837" y="17859"/>
                  <a:pt x="8806" y="17884"/>
                </a:cubicBezTo>
                <a:cubicBezTo>
                  <a:pt x="8769" y="17914"/>
                  <a:pt x="8762" y="17920"/>
                  <a:pt x="8731" y="17934"/>
                </a:cubicBezTo>
                <a:cubicBezTo>
                  <a:pt x="8703" y="17947"/>
                  <a:pt x="8661" y="17949"/>
                  <a:pt x="8632" y="17959"/>
                </a:cubicBezTo>
                <a:cubicBezTo>
                  <a:pt x="8606" y="17968"/>
                  <a:pt x="8564" y="18005"/>
                  <a:pt x="8558" y="18008"/>
                </a:cubicBezTo>
                <a:cubicBezTo>
                  <a:pt x="8528" y="18021"/>
                  <a:pt x="8514" y="18021"/>
                  <a:pt x="8483" y="18033"/>
                </a:cubicBezTo>
                <a:cubicBezTo>
                  <a:pt x="8450" y="18045"/>
                  <a:pt x="8419" y="18046"/>
                  <a:pt x="8384" y="18058"/>
                </a:cubicBezTo>
                <a:cubicBezTo>
                  <a:pt x="8359" y="18066"/>
                  <a:pt x="8316" y="18104"/>
                  <a:pt x="8310" y="18107"/>
                </a:cubicBezTo>
                <a:cubicBezTo>
                  <a:pt x="8280" y="18120"/>
                  <a:pt x="8268" y="18127"/>
                  <a:pt x="8235" y="18132"/>
                </a:cubicBezTo>
                <a:cubicBezTo>
                  <a:pt x="8169" y="18142"/>
                  <a:pt x="8112" y="18112"/>
                  <a:pt x="8062" y="18107"/>
                </a:cubicBezTo>
                <a:cubicBezTo>
                  <a:pt x="8008" y="18102"/>
                  <a:pt x="7983" y="18098"/>
                  <a:pt x="7938" y="18083"/>
                </a:cubicBezTo>
                <a:cubicBezTo>
                  <a:pt x="7918" y="18076"/>
                  <a:pt x="7854" y="18070"/>
                  <a:pt x="7838" y="18058"/>
                </a:cubicBezTo>
                <a:cubicBezTo>
                  <a:pt x="7780" y="18017"/>
                  <a:pt x="7733" y="17915"/>
                  <a:pt x="7689" y="17884"/>
                </a:cubicBezTo>
                <a:cubicBezTo>
                  <a:pt x="7667" y="17868"/>
                  <a:pt x="7618" y="17849"/>
                  <a:pt x="7590" y="17835"/>
                </a:cubicBezTo>
                <a:cubicBezTo>
                  <a:pt x="7551" y="17816"/>
                  <a:pt x="7515" y="17832"/>
                  <a:pt x="7491" y="17835"/>
                </a:cubicBezTo>
                <a:cubicBezTo>
                  <a:pt x="7459" y="17840"/>
                  <a:pt x="7425" y="17849"/>
                  <a:pt x="7392" y="17859"/>
                </a:cubicBezTo>
                <a:cubicBezTo>
                  <a:pt x="7357" y="17869"/>
                  <a:pt x="7353" y="17901"/>
                  <a:pt x="7317" y="17909"/>
                </a:cubicBezTo>
                <a:cubicBezTo>
                  <a:pt x="7194" y="17938"/>
                  <a:pt x="7034" y="17884"/>
                  <a:pt x="6945" y="17934"/>
                </a:cubicBezTo>
                <a:cubicBezTo>
                  <a:pt x="6924" y="17946"/>
                  <a:pt x="6909" y="17976"/>
                  <a:pt x="6896" y="17983"/>
                </a:cubicBezTo>
                <a:cubicBezTo>
                  <a:pt x="6859" y="18001"/>
                  <a:pt x="6849" y="17988"/>
                  <a:pt x="6821" y="18008"/>
                </a:cubicBezTo>
                <a:cubicBezTo>
                  <a:pt x="6802" y="18022"/>
                  <a:pt x="6786" y="18043"/>
                  <a:pt x="6747" y="18058"/>
                </a:cubicBezTo>
                <a:cubicBezTo>
                  <a:pt x="6711" y="18072"/>
                  <a:pt x="6689" y="18078"/>
                  <a:pt x="6648" y="18083"/>
                </a:cubicBezTo>
                <a:cubicBezTo>
                  <a:pt x="6572" y="18093"/>
                  <a:pt x="6465" y="18101"/>
                  <a:pt x="6400" y="18107"/>
                </a:cubicBezTo>
                <a:cubicBezTo>
                  <a:pt x="6245" y="18121"/>
                  <a:pt x="6069" y="18119"/>
                  <a:pt x="5928" y="18132"/>
                </a:cubicBezTo>
                <a:cubicBezTo>
                  <a:pt x="5863" y="18138"/>
                  <a:pt x="5804" y="18112"/>
                  <a:pt x="5755" y="18107"/>
                </a:cubicBezTo>
                <a:cubicBezTo>
                  <a:pt x="5693" y="18101"/>
                  <a:pt x="5657" y="18097"/>
                  <a:pt x="5606" y="18083"/>
                </a:cubicBezTo>
                <a:cubicBezTo>
                  <a:pt x="5558" y="18070"/>
                  <a:pt x="5526" y="18073"/>
                  <a:pt x="5482" y="18058"/>
                </a:cubicBezTo>
                <a:cubicBezTo>
                  <a:pt x="5442" y="18045"/>
                  <a:pt x="5419" y="18031"/>
                  <a:pt x="5383" y="18008"/>
                </a:cubicBezTo>
                <a:cubicBezTo>
                  <a:pt x="5345" y="17984"/>
                  <a:pt x="5322" y="17953"/>
                  <a:pt x="5283" y="17934"/>
                </a:cubicBezTo>
                <a:cubicBezTo>
                  <a:pt x="5242" y="17914"/>
                  <a:pt x="5227" y="17917"/>
                  <a:pt x="5184" y="17884"/>
                </a:cubicBezTo>
                <a:cubicBezTo>
                  <a:pt x="5150" y="17858"/>
                  <a:pt x="5141" y="17841"/>
                  <a:pt x="5110" y="17835"/>
                </a:cubicBezTo>
                <a:cubicBezTo>
                  <a:pt x="5030" y="17820"/>
                  <a:pt x="5126" y="17853"/>
                  <a:pt x="5085" y="1785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31040" y="2108160"/>
            <a:ext cx="546120" cy="384120"/>
          </a:xfrm>
          <a:custGeom>
            <a:avLst/>
            <a:gdLst/>
            <a:ahLst/>
            <a:rect l="l" t="t" r="r" b="b"/>
            <a:pathLst>
              <a:path w="1514" h="1068">
                <a:moveTo>
                  <a:pt x="20513" y="6424"/>
                </a:moveTo>
                <a:cubicBezTo>
                  <a:pt x="20536" y="6402"/>
                  <a:pt x="20558" y="6391"/>
                  <a:pt x="20588" y="6375"/>
                </a:cubicBezTo>
                <a:cubicBezTo>
                  <a:pt x="20608" y="6364"/>
                  <a:pt x="20666" y="6330"/>
                  <a:pt x="20687" y="6325"/>
                </a:cubicBezTo>
                <a:cubicBezTo>
                  <a:pt x="20726" y="6316"/>
                  <a:pt x="20751" y="6315"/>
                  <a:pt x="20786" y="6300"/>
                </a:cubicBezTo>
                <a:cubicBezTo>
                  <a:pt x="20831" y="6280"/>
                  <a:pt x="20825" y="6261"/>
                  <a:pt x="20861" y="6251"/>
                </a:cubicBezTo>
                <a:cubicBezTo>
                  <a:pt x="20932" y="6232"/>
                  <a:pt x="21044" y="6237"/>
                  <a:pt x="21109" y="6226"/>
                </a:cubicBezTo>
                <a:cubicBezTo>
                  <a:pt x="21205" y="6210"/>
                  <a:pt x="21320" y="6215"/>
                  <a:pt x="21406" y="6201"/>
                </a:cubicBezTo>
                <a:cubicBezTo>
                  <a:pt x="21439" y="6195"/>
                  <a:pt x="21448" y="6183"/>
                  <a:pt x="21481" y="6176"/>
                </a:cubicBezTo>
                <a:cubicBezTo>
                  <a:pt x="21511" y="6170"/>
                  <a:pt x="21558" y="6156"/>
                  <a:pt x="21580" y="6152"/>
                </a:cubicBezTo>
                <a:cubicBezTo>
                  <a:pt x="21641" y="6142"/>
                  <a:pt x="21701" y="6154"/>
                  <a:pt x="21729" y="6176"/>
                </a:cubicBezTo>
                <a:cubicBezTo>
                  <a:pt x="21754" y="6196"/>
                  <a:pt x="21756" y="6219"/>
                  <a:pt x="21779" y="6251"/>
                </a:cubicBezTo>
                <a:cubicBezTo>
                  <a:pt x="21786" y="6261"/>
                  <a:pt x="21818" y="6290"/>
                  <a:pt x="21828" y="6300"/>
                </a:cubicBezTo>
                <a:cubicBezTo>
                  <a:pt x="21852" y="6323"/>
                  <a:pt x="21867" y="6310"/>
                  <a:pt x="21878" y="6350"/>
                </a:cubicBezTo>
                <a:cubicBezTo>
                  <a:pt x="21891" y="6394"/>
                  <a:pt x="21854" y="6418"/>
                  <a:pt x="21853" y="6424"/>
                </a:cubicBezTo>
                <a:cubicBezTo>
                  <a:pt x="21844" y="6468"/>
                  <a:pt x="21850" y="6472"/>
                  <a:pt x="21828" y="6499"/>
                </a:cubicBezTo>
                <a:cubicBezTo>
                  <a:pt x="21812" y="6519"/>
                  <a:pt x="21781" y="6517"/>
                  <a:pt x="21754" y="6548"/>
                </a:cubicBezTo>
                <a:cubicBezTo>
                  <a:pt x="21719" y="6589"/>
                  <a:pt x="21726" y="6595"/>
                  <a:pt x="21679" y="6623"/>
                </a:cubicBezTo>
                <a:cubicBezTo>
                  <a:pt x="21651" y="6639"/>
                  <a:pt x="21611" y="6657"/>
                  <a:pt x="21580" y="6672"/>
                </a:cubicBezTo>
                <a:cubicBezTo>
                  <a:pt x="21548" y="6688"/>
                  <a:pt x="21516" y="6685"/>
                  <a:pt x="21481" y="6697"/>
                </a:cubicBezTo>
                <a:cubicBezTo>
                  <a:pt x="21452" y="6707"/>
                  <a:pt x="21410" y="6709"/>
                  <a:pt x="21382" y="6722"/>
                </a:cubicBezTo>
                <a:cubicBezTo>
                  <a:pt x="21376" y="6725"/>
                  <a:pt x="21333" y="6766"/>
                  <a:pt x="21307" y="6772"/>
                </a:cubicBezTo>
                <a:cubicBezTo>
                  <a:pt x="21263" y="6782"/>
                  <a:pt x="21248" y="6778"/>
                  <a:pt x="21208" y="6796"/>
                </a:cubicBezTo>
                <a:cubicBezTo>
                  <a:pt x="21175" y="6810"/>
                  <a:pt x="21144" y="6809"/>
                  <a:pt x="21109" y="6821"/>
                </a:cubicBezTo>
                <a:cubicBezTo>
                  <a:pt x="21069" y="6835"/>
                  <a:pt x="21059" y="6843"/>
                  <a:pt x="21010" y="6846"/>
                </a:cubicBezTo>
                <a:cubicBezTo>
                  <a:pt x="20874" y="6854"/>
                  <a:pt x="20735" y="6850"/>
                  <a:pt x="20613" y="6871"/>
                </a:cubicBezTo>
                <a:cubicBezTo>
                  <a:pt x="20572" y="6878"/>
                  <a:pt x="20550" y="6890"/>
                  <a:pt x="20513" y="6896"/>
                </a:cubicBezTo>
                <a:cubicBezTo>
                  <a:pt x="20474" y="6903"/>
                  <a:pt x="20458" y="6886"/>
                  <a:pt x="20439" y="6871"/>
                </a:cubicBezTo>
                <a:cubicBezTo>
                  <a:pt x="20413" y="6850"/>
                  <a:pt x="20408" y="6852"/>
                  <a:pt x="20365" y="6846"/>
                </a:cubicBezTo>
                <a:cubicBezTo>
                  <a:pt x="20388" y="6916"/>
                  <a:pt x="20361" y="6862"/>
                  <a:pt x="20414" y="6896"/>
                </a:cubicBezTo>
                <a:cubicBezTo>
                  <a:pt x="20439" y="6912"/>
                  <a:pt x="20436" y="6918"/>
                  <a:pt x="20489" y="6921"/>
                </a:cubicBezTo>
                <a:cubicBezTo>
                  <a:pt x="20551" y="6925"/>
                  <a:pt x="20588" y="6919"/>
                  <a:pt x="20638" y="6896"/>
                </a:cubicBezTo>
                <a:cubicBezTo>
                  <a:pt x="20667" y="6883"/>
                  <a:pt x="20700" y="6863"/>
                  <a:pt x="20737" y="6871"/>
                </a:cubicBezTo>
                <a:cubicBezTo>
                  <a:pt x="20788" y="6882"/>
                  <a:pt x="20804" y="6915"/>
                  <a:pt x="20861" y="6921"/>
                </a:cubicBezTo>
                <a:cubicBezTo>
                  <a:pt x="20921" y="6928"/>
                  <a:pt x="20989" y="6929"/>
                  <a:pt x="21034" y="6896"/>
                </a:cubicBezTo>
                <a:cubicBezTo>
                  <a:pt x="21079" y="6863"/>
                  <a:pt x="21079" y="6844"/>
                  <a:pt x="21084" y="6796"/>
                </a:cubicBezTo>
                <a:cubicBezTo>
                  <a:pt x="21092" y="6729"/>
                  <a:pt x="21062" y="6711"/>
                  <a:pt x="21059" y="6648"/>
                </a:cubicBezTo>
                <a:cubicBezTo>
                  <a:pt x="21055" y="6559"/>
                  <a:pt x="21029" y="6318"/>
                  <a:pt x="21084" y="6276"/>
                </a:cubicBezTo>
                <a:cubicBezTo>
                  <a:pt x="21110" y="6256"/>
                  <a:pt x="21154" y="6264"/>
                  <a:pt x="21183" y="6251"/>
                </a:cubicBezTo>
                <a:cubicBezTo>
                  <a:pt x="21188" y="6249"/>
                  <a:pt x="21239" y="6195"/>
                  <a:pt x="21258" y="6176"/>
                </a:cubicBezTo>
                <a:cubicBezTo>
                  <a:pt x="21280" y="6154"/>
                  <a:pt x="21288" y="6157"/>
                  <a:pt x="21307" y="6127"/>
                </a:cubicBezTo>
                <a:cubicBezTo>
                  <a:pt x="21341" y="6075"/>
                  <a:pt x="21353" y="6106"/>
                  <a:pt x="21382" y="6077"/>
                </a:cubicBezTo>
                <a:cubicBezTo>
                  <a:pt x="21382" y="6069"/>
                  <a:pt x="21382" y="6060"/>
                  <a:pt x="21382" y="6052"/>
                </a:cubicBezTo>
                <a:cubicBezTo>
                  <a:pt x="21365" y="6039"/>
                  <a:pt x="21338" y="6026"/>
                  <a:pt x="21307" y="6003"/>
                </a:cubicBezTo>
                <a:cubicBezTo>
                  <a:pt x="21281" y="5984"/>
                  <a:pt x="21287" y="5981"/>
                  <a:pt x="21233" y="5978"/>
                </a:cubicBezTo>
                <a:cubicBezTo>
                  <a:pt x="21176" y="5975"/>
                  <a:pt x="21157" y="5974"/>
                  <a:pt x="21109" y="5953"/>
                </a:cubicBezTo>
                <a:cubicBezTo>
                  <a:pt x="21076" y="5938"/>
                  <a:pt x="21045" y="5939"/>
                  <a:pt x="21010" y="5928"/>
                </a:cubicBezTo>
                <a:cubicBezTo>
                  <a:pt x="20970" y="5915"/>
                  <a:pt x="20958" y="5907"/>
                  <a:pt x="20910" y="5904"/>
                </a:cubicBezTo>
                <a:cubicBezTo>
                  <a:pt x="20873" y="5902"/>
                  <a:pt x="20840" y="5897"/>
                  <a:pt x="20811" y="5879"/>
                </a:cubicBezTo>
                <a:cubicBezTo>
                  <a:pt x="20787" y="5864"/>
                  <a:pt x="20790" y="5857"/>
                  <a:pt x="20737" y="5854"/>
                </a:cubicBezTo>
                <a:cubicBezTo>
                  <a:pt x="20679" y="5851"/>
                  <a:pt x="20664" y="5858"/>
                  <a:pt x="20638" y="5879"/>
                </a:cubicBezTo>
                <a:cubicBezTo>
                  <a:pt x="20611" y="5901"/>
                  <a:pt x="20600" y="5886"/>
                  <a:pt x="20563" y="5904"/>
                </a:cubicBezTo>
                <a:cubicBezTo>
                  <a:pt x="20547" y="5912"/>
                  <a:pt x="20516" y="5952"/>
                  <a:pt x="20513" y="5953"/>
                </a:cubicBezTo>
                <a:cubicBezTo>
                  <a:pt x="20464" y="5967"/>
                  <a:pt x="20492" y="5950"/>
                  <a:pt x="20464" y="5978"/>
                </a:cubicBezTo>
                <a:cubicBezTo>
                  <a:pt x="20501" y="5983"/>
                  <a:pt x="20536" y="5998"/>
                  <a:pt x="20563" y="6003"/>
                </a:cubicBezTo>
                <a:cubicBezTo>
                  <a:pt x="20596" y="6008"/>
                  <a:pt x="20661" y="6028"/>
                  <a:pt x="20662" y="6028"/>
                </a:cubicBezTo>
                <a:cubicBezTo>
                  <a:pt x="20717" y="6039"/>
                  <a:pt x="20713" y="6047"/>
                  <a:pt x="20762" y="6077"/>
                </a:cubicBezTo>
                <a:cubicBezTo>
                  <a:pt x="20804" y="6102"/>
                  <a:pt x="20802" y="6112"/>
                  <a:pt x="20836" y="6152"/>
                </a:cubicBezTo>
                <a:cubicBezTo>
                  <a:pt x="20852" y="6171"/>
                  <a:pt x="20868" y="6192"/>
                  <a:pt x="20886" y="6226"/>
                </a:cubicBezTo>
                <a:cubicBezTo>
                  <a:pt x="20896" y="6246"/>
                  <a:pt x="20930" y="6304"/>
                  <a:pt x="20935" y="6325"/>
                </a:cubicBezTo>
                <a:cubicBezTo>
                  <a:pt x="20945" y="6371"/>
                  <a:pt x="20930" y="6390"/>
                  <a:pt x="20910" y="6424"/>
                </a:cubicBezTo>
                <a:cubicBezTo>
                  <a:pt x="20902" y="6437"/>
                  <a:pt x="20861" y="6455"/>
                  <a:pt x="20836" y="6474"/>
                </a:cubicBezTo>
                <a:cubicBezTo>
                  <a:pt x="20807" y="6496"/>
                  <a:pt x="20803" y="6484"/>
                  <a:pt x="20762" y="6499"/>
                </a:cubicBezTo>
                <a:cubicBezTo>
                  <a:pt x="20727" y="6511"/>
                  <a:pt x="20672" y="6489"/>
                  <a:pt x="20662" y="6524"/>
                </a:cubicBezTo>
                <a:cubicBezTo>
                  <a:pt x="20662" y="6552"/>
                  <a:pt x="20665" y="6562"/>
                  <a:pt x="20687" y="657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29240" y="3321000"/>
            <a:ext cx="615960" cy="403200"/>
          </a:xfrm>
          <a:custGeom>
            <a:avLst/>
            <a:gdLst/>
            <a:ahLst/>
            <a:rect l="l" t="t" r="r" b="b"/>
            <a:pathLst>
              <a:path w="1713" h="1118">
                <a:moveTo>
                  <a:pt x="19372" y="10046"/>
                </a:moveTo>
                <a:cubicBezTo>
                  <a:pt x="19351" y="10009"/>
                  <a:pt x="19354" y="9982"/>
                  <a:pt x="19323" y="9971"/>
                </a:cubicBezTo>
                <a:cubicBezTo>
                  <a:pt x="19251" y="9945"/>
                  <a:pt x="19165" y="9985"/>
                  <a:pt x="19100" y="9996"/>
                </a:cubicBezTo>
                <a:cubicBezTo>
                  <a:pt x="19004" y="10012"/>
                  <a:pt x="18920" y="9988"/>
                  <a:pt x="18827" y="10021"/>
                </a:cubicBezTo>
                <a:cubicBezTo>
                  <a:pt x="18776" y="10039"/>
                  <a:pt x="18706" y="10062"/>
                  <a:pt x="18653" y="10071"/>
                </a:cubicBezTo>
                <a:cubicBezTo>
                  <a:pt x="18565" y="10086"/>
                  <a:pt x="18485" y="10059"/>
                  <a:pt x="18405" y="10046"/>
                </a:cubicBezTo>
                <a:cubicBezTo>
                  <a:pt x="18323" y="10032"/>
                  <a:pt x="18236" y="10034"/>
                  <a:pt x="18157" y="10021"/>
                </a:cubicBezTo>
                <a:cubicBezTo>
                  <a:pt x="18112" y="10013"/>
                  <a:pt x="18047" y="10015"/>
                  <a:pt x="18008" y="9996"/>
                </a:cubicBezTo>
                <a:cubicBezTo>
                  <a:pt x="17973" y="9979"/>
                  <a:pt x="17912" y="9942"/>
                  <a:pt x="17884" y="9922"/>
                </a:cubicBezTo>
                <a:cubicBezTo>
                  <a:pt x="17876" y="9914"/>
                  <a:pt x="17867" y="9905"/>
                  <a:pt x="17859" y="9897"/>
                </a:cubicBezTo>
                <a:cubicBezTo>
                  <a:pt x="17878" y="9859"/>
                  <a:pt x="17899" y="9780"/>
                  <a:pt x="17934" y="9748"/>
                </a:cubicBezTo>
                <a:cubicBezTo>
                  <a:pt x="18004" y="9682"/>
                  <a:pt x="18031" y="9674"/>
                  <a:pt x="18132" y="9674"/>
                </a:cubicBezTo>
                <a:cubicBezTo>
                  <a:pt x="18329" y="9674"/>
                  <a:pt x="18621" y="9620"/>
                  <a:pt x="18802" y="9699"/>
                </a:cubicBezTo>
                <a:cubicBezTo>
                  <a:pt x="18857" y="9723"/>
                  <a:pt x="18893" y="9723"/>
                  <a:pt x="18951" y="9723"/>
                </a:cubicBezTo>
                <a:cubicBezTo>
                  <a:pt x="19022" y="9723"/>
                  <a:pt x="19113" y="9706"/>
                  <a:pt x="19149" y="9699"/>
                </a:cubicBezTo>
                <a:cubicBezTo>
                  <a:pt x="19191" y="9691"/>
                  <a:pt x="19208" y="9700"/>
                  <a:pt x="19224" y="9649"/>
                </a:cubicBezTo>
                <a:cubicBezTo>
                  <a:pt x="19237" y="9607"/>
                  <a:pt x="19226" y="9603"/>
                  <a:pt x="19248" y="9575"/>
                </a:cubicBezTo>
                <a:cubicBezTo>
                  <a:pt x="19270" y="9548"/>
                  <a:pt x="19255" y="9537"/>
                  <a:pt x="19273" y="9500"/>
                </a:cubicBezTo>
                <a:cubicBezTo>
                  <a:pt x="19287" y="9471"/>
                  <a:pt x="19280" y="9461"/>
                  <a:pt x="19298" y="9426"/>
                </a:cubicBezTo>
                <a:cubicBezTo>
                  <a:pt x="19310" y="9402"/>
                  <a:pt x="19344" y="9415"/>
                  <a:pt x="19372" y="9401"/>
                </a:cubicBezTo>
                <a:cubicBezTo>
                  <a:pt x="19394" y="9390"/>
                  <a:pt x="19421" y="9370"/>
                  <a:pt x="19447" y="9351"/>
                </a:cubicBezTo>
                <a:cubicBezTo>
                  <a:pt x="19469" y="9335"/>
                  <a:pt x="19486" y="9344"/>
                  <a:pt x="19521" y="9327"/>
                </a:cubicBezTo>
                <a:cubicBezTo>
                  <a:pt x="19551" y="9312"/>
                  <a:pt x="19543" y="9319"/>
                  <a:pt x="19571" y="9302"/>
                </a:cubicBezTo>
                <a:cubicBezTo>
                  <a:pt x="19548" y="9232"/>
                  <a:pt x="19575" y="9286"/>
                  <a:pt x="19521" y="9252"/>
                </a:cubicBezTo>
                <a:cubicBezTo>
                  <a:pt x="19496" y="9236"/>
                  <a:pt x="19500" y="9230"/>
                  <a:pt x="19447" y="9227"/>
                </a:cubicBezTo>
                <a:cubicBezTo>
                  <a:pt x="19271" y="9217"/>
                  <a:pt x="19038" y="9224"/>
                  <a:pt x="18901" y="9252"/>
                </a:cubicBezTo>
                <a:cubicBezTo>
                  <a:pt x="18852" y="9262"/>
                  <a:pt x="18864" y="9270"/>
                  <a:pt x="18827" y="9277"/>
                </a:cubicBezTo>
                <a:cubicBezTo>
                  <a:pt x="18782" y="9286"/>
                  <a:pt x="18691" y="9299"/>
                  <a:pt x="18678" y="9302"/>
                </a:cubicBezTo>
                <a:cubicBezTo>
                  <a:pt x="18553" y="9327"/>
                  <a:pt x="18419" y="9278"/>
                  <a:pt x="18306" y="9327"/>
                </a:cubicBezTo>
                <a:cubicBezTo>
                  <a:pt x="18273" y="9341"/>
                  <a:pt x="18241" y="9340"/>
                  <a:pt x="18207" y="9351"/>
                </a:cubicBezTo>
                <a:cubicBezTo>
                  <a:pt x="18175" y="9362"/>
                  <a:pt x="18137" y="9394"/>
                  <a:pt x="18107" y="9401"/>
                </a:cubicBezTo>
                <a:cubicBezTo>
                  <a:pt x="18064" y="9411"/>
                  <a:pt x="18060" y="9404"/>
                  <a:pt x="18033" y="9426"/>
                </a:cubicBezTo>
                <a:cubicBezTo>
                  <a:pt x="18029" y="9429"/>
                  <a:pt x="17987" y="9482"/>
                  <a:pt x="17983" y="9500"/>
                </a:cubicBezTo>
                <a:cubicBezTo>
                  <a:pt x="17966" y="9572"/>
                  <a:pt x="17994" y="9664"/>
                  <a:pt x="18008" y="9699"/>
                </a:cubicBezTo>
                <a:cubicBezTo>
                  <a:pt x="18027" y="9747"/>
                  <a:pt x="18058" y="9834"/>
                  <a:pt x="18083" y="9872"/>
                </a:cubicBezTo>
                <a:cubicBezTo>
                  <a:pt x="18115" y="9920"/>
                  <a:pt x="18173" y="9942"/>
                  <a:pt x="18207" y="9971"/>
                </a:cubicBezTo>
                <a:cubicBezTo>
                  <a:pt x="18253" y="10010"/>
                  <a:pt x="18281" y="10022"/>
                  <a:pt x="18331" y="10046"/>
                </a:cubicBezTo>
                <a:cubicBezTo>
                  <a:pt x="18379" y="10069"/>
                  <a:pt x="18428" y="10087"/>
                  <a:pt x="18479" y="10096"/>
                </a:cubicBezTo>
                <a:cubicBezTo>
                  <a:pt x="18542" y="10108"/>
                  <a:pt x="18624" y="10111"/>
                  <a:pt x="18678" y="10120"/>
                </a:cubicBezTo>
                <a:cubicBezTo>
                  <a:pt x="18770" y="10135"/>
                  <a:pt x="18896" y="10107"/>
                  <a:pt x="18951" y="10096"/>
                </a:cubicBezTo>
                <a:cubicBezTo>
                  <a:pt x="19037" y="10079"/>
                  <a:pt x="19227" y="10084"/>
                  <a:pt x="19273" y="10120"/>
                </a:cubicBezTo>
                <a:cubicBezTo>
                  <a:pt x="19311" y="10150"/>
                  <a:pt x="19274" y="10148"/>
                  <a:pt x="19298" y="10195"/>
                </a:cubicBezTo>
                <a:cubicBezTo>
                  <a:pt x="19323" y="10246"/>
                  <a:pt x="19315" y="10211"/>
                  <a:pt x="19298" y="10244"/>
                </a:cubicBezTo>
                <a:cubicBezTo>
                  <a:pt x="19282" y="10276"/>
                  <a:pt x="19266" y="10307"/>
                  <a:pt x="19224" y="10319"/>
                </a:cubicBezTo>
                <a:cubicBezTo>
                  <a:pt x="19184" y="10331"/>
                  <a:pt x="19165" y="10336"/>
                  <a:pt x="19124" y="10344"/>
                </a:cubicBezTo>
                <a:cubicBezTo>
                  <a:pt x="19071" y="10355"/>
                  <a:pt x="19087" y="10326"/>
                  <a:pt x="19050" y="10319"/>
                </a:cubicBezTo>
                <a:cubicBezTo>
                  <a:pt x="19013" y="10312"/>
                  <a:pt x="18932" y="10295"/>
                  <a:pt x="18926" y="10294"/>
                </a:cubicBezTo>
                <a:cubicBezTo>
                  <a:pt x="18879" y="10285"/>
                  <a:pt x="18815" y="10275"/>
                  <a:pt x="18777" y="10269"/>
                </a:cubicBezTo>
                <a:cubicBezTo>
                  <a:pt x="18723" y="10260"/>
                  <a:pt x="18624" y="10248"/>
                  <a:pt x="18604" y="10244"/>
                </a:cubicBezTo>
                <a:cubicBezTo>
                  <a:pt x="18528" y="10230"/>
                  <a:pt x="18400" y="10229"/>
                  <a:pt x="18355" y="10220"/>
                </a:cubicBezTo>
                <a:cubicBezTo>
                  <a:pt x="18331" y="10215"/>
                  <a:pt x="18305" y="10223"/>
                  <a:pt x="18281" y="1022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27840" y="4384800"/>
            <a:ext cx="1125360" cy="642960"/>
          </a:xfrm>
          <a:custGeom>
            <a:avLst/>
            <a:gdLst/>
            <a:ahLst/>
            <a:rect l="l" t="t" r="r" b="b"/>
            <a:pathLst>
              <a:path w="3127" h="1787">
                <a:moveTo>
                  <a:pt x="19397" y="13345"/>
                </a:moveTo>
                <a:cubicBezTo>
                  <a:pt x="19372" y="13328"/>
                  <a:pt x="19363" y="13306"/>
                  <a:pt x="19323" y="13295"/>
                </a:cubicBezTo>
                <a:cubicBezTo>
                  <a:pt x="19286" y="13285"/>
                  <a:pt x="19257" y="13282"/>
                  <a:pt x="19224" y="13271"/>
                </a:cubicBezTo>
                <a:cubicBezTo>
                  <a:pt x="19166" y="13252"/>
                  <a:pt x="19114" y="13218"/>
                  <a:pt x="19050" y="13196"/>
                </a:cubicBezTo>
                <a:cubicBezTo>
                  <a:pt x="18974" y="13170"/>
                  <a:pt x="18883" y="13149"/>
                  <a:pt x="18802" y="13122"/>
                </a:cubicBezTo>
                <a:cubicBezTo>
                  <a:pt x="18694" y="13086"/>
                  <a:pt x="18612" y="13089"/>
                  <a:pt x="18504" y="13072"/>
                </a:cubicBezTo>
                <a:cubicBezTo>
                  <a:pt x="18366" y="13050"/>
                  <a:pt x="18219" y="13050"/>
                  <a:pt x="18083" y="13022"/>
                </a:cubicBezTo>
                <a:cubicBezTo>
                  <a:pt x="17992" y="13003"/>
                  <a:pt x="17900" y="12992"/>
                  <a:pt x="17810" y="12973"/>
                </a:cubicBezTo>
                <a:cubicBezTo>
                  <a:pt x="17754" y="12961"/>
                  <a:pt x="17693" y="12960"/>
                  <a:pt x="17636" y="12948"/>
                </a:cubicBezTo>
                <a:cubicBezTo>
                  <a:pt x="17580" y="12936"/>
                  <a:pt x="17546" y="12928"/>
                  <a:pt x="17487" y="12923"/>
                </a:cubicBezTo>
                <a:cubicBezTo>
                  <a:pt x="17531" y="12893"/>
                  <a:pt x="17536" y="12880"/>
                  <a:pt x="17587" y="12849"/>
                </a:cubicBezTo>
                <a:cubicBezTo>
                  <a:pt x="17684" y="12790"/>
                  <a:pt x="17793" y="12738"/>
                  <a:pt x="17909" y="12725"/>
                </a:cubicBezTo>
                <a:cubicBezTo>
                  <a:pt x="18045" y="12710"/>
                  <a:pt x="18174" y="12737"/>
                  <a:pt x="18306" y="12750"/>
                </a:cubicBezTo>
                <a:cubicBezTo>
                  <a:pt x="18406" y="12760"/>
                  <a:pt x="18506" y="12767"/>
                  <a:pt x="18604" y="12774"/>
                </a:cubicBezTo>
                <a:cubicBezTo>
                  <a:pt x="18663" y="12778"/>
                  <a:pt x="18705" y="12770"/>
                  <a:pt x="18752" y="12750"/>
                </a:cubicBezTo>
                <a:cubicBezTo>
                  <a:pt x="18788" y="12735"/>
                  <a:pt x="18809" y="12700"/>
                  <a:pt x="18852" y="12700"/>
                </a:cubicBezTo>
                <a:cubicBezTo>
                  <a:pt x="18885" y="12700"/>
                  <a:pt x="18893" y="12725"/>
                  <a:pt x="18926" y="12725"/>
                </a:cubicBezTo>
                <a:cubicBezTo>
                  <a:pt x="19018" y="12725"/>
                  <a:pt x="19096" y="12727"/>
                  <a:pt x="19174" y="12700"/>
                </a:cubicBezTo>
                <a:cubicBezTo>
                  <a:pt x="19209" y="12688"/>
                  <a:pt x="19202" y="12663"/>
                  <a:pt x="19224" y="12650"/>
                </a:cubicBezTo>
                <a:cubicBezTo>
                  <a:pt x="19255" y="12631"/>
                  <a:pt x="19242" y="12644"/>
                  <a:pt x="19273" y="12626"/>
                </a:cubicBezTo>
                <a:cubicBezTo>
                  <a:pt x="19298" y="12612"/>
                  <a:pt x="19354" y="12592"/>
                  <a:pt x="19372" y="12576"/>
                </a:cubicBezTo>
                <a:cubicBezTo>
                  <a:pt x="19395" y="12553"/>
                  <a:pt x="19403" y="12549"/>
                  <a:pt x="19397" y="12526"/>
                </a:cubicBezTo>
                <a:cubicBezTo>
                  <a:pt x="19376" y="12491"/>
                  <a:pt x="19373" y="12472"/>
                  <a:pt x="19348" y="12452"/>
                </a:cubicBezTo>
                <a:cubicBezTo>
                  <a:pt x="19326" y="12434"/>
                  <a:pt x="19260" y="12417"/>
                  <a:pt x="19248" y="12402"/>
                </a:cubicBezTo>
                <a:cubicBezTo>
                  <a:pt x="19243" y="12396"/>
                  <a:pt x="19228" y="12331"/>
                  <a:pt x="19224" y="12328"/>
                </a:cubicBezTo>
                <a:cubicBezTo>
                  <a:pt x="19199" y="12311"/>
                  <a:pt x="19154" y="12293"/>
                  <a:pt x="19124" y="12278"/>
                </a:cubicBezTo>
                <a:cubicBezTo>
                  <a:pt x="19094" y="12262"/>
                  <a:pt x="19034" y="12259"/>
                  <a:pt x="19000" y="12254"/>
                </a:cubicBezTo>
                <a:cubicBezTo>
                  <a:pt x="18846" y="12232"/>
                  <a:pt x="18668" y="12263"/>
                  <a:pt x="18529" y="12278"/>
                </a:cubicBezTo>
                <a:cubicBezTo>
                  <a:pt x="18419" y="12290"/>
                  <a:pt x="18301" y="12263"/>
                  <a:pt x="18207" y="12254"/>
                </a:cubicBezTo>
                <a:cubicBezTo>
                  <a:pt x="18131" y="12247"/>
                  <a:pt x="18073" y="12248"/>
                  <a:pt x="18008" y="12229"/>
                </a:cubicBezTo>
                <a:cubicBezTo>
                  <a:pt x="17975" y="12219"/>
                  <a:pt x="17943" y="12215"/>
                  <a:pt x="17909" y="12204"/>
                </a:cubicBezTo>
                <a:cubicBezTo>
                  <a:pt x="17868" y="12190"/>
                  <a:pt x="17860" y="12181"/>
                  <a:pt x="17810" y="12179"/>
                </a:cubicBezTo>
                <a:cubicBezTo>
                  <a:pt x="17643" y="12173"/>
                  <a:pt x="17465" y="12187"/>
                  <a:pt x="17314" y="12204"/>
                </a:cubicBezTo>
                <a:cubicBezTo>
                  <a:pt x="17265" y="12210"/>
                  <a:pt x="17203" y="12225"/>
                  <a:pt x="17165" y="12229"/>
                </a:cubicBezTo>
                <a:cubicBezTo>
                  <a:pt x="17109" y="12235"/>
                  <a:pt x="17086" y="12207"/>
                  <a:pt x="17041" y="12204"/>
                </a:cubicBezTo>
                <a:cubicBezTo>
                  <a:pt x="16967" y="12199"/>
                  <a:pt x="16901" y="12222"/>
                  <a:pt x="16842" y="12229"/>
                </a:cubicBezTo>
                <a:cubicBezTo>
                  <a:pt x="16809" y="12233"/>
                  <a:pt x="16776" y="12226"/>
                  <a:pt x="16743" y="12229"/>
                </a:cubicBezTo>
                <a:cubicBezTo>
                  <a:pt x="16760" y="12268"/>
                  <a:pt x="16750" y="12272"/>
                  <a:pt x="16768" y="12303"/>
                </a:cubicBezTo>
                <a:cubicBezTo>
                  <a:pt x="16789" y="12339"/>
                  <a:pt x="16803" y="12364"/>
                  <a:pt x="16818" y="12402"/>
                </a:cubicBezTo>
                <a:cubicBezTo>
                  <a:pt x="16836" y="12449"/>
                  <a:pt x="16853" y="12484"/>
                  <a:pt x="16867" y="12526"/>
                </a:cubicBezTo>
                <a:cubicBezTo>
                  <a:pt x="16878" y="12560"/>
                  <a:pt x="16873" y="12596"/>
                  <a:pt x="16892" y="12626"/>
                </a:cubicBezTo>
                <a:cubicBezTo>
                  <a:pt x="16925" y="12677"/>
                  <a:pt x="16914" y="12661"/>
                  <a:pt x="16966" y="12675"/>
                </a:cubicBezTo>
                <a:cubicBezTo>
                  <a:pt x="17077" y="12704"/>
                  <a:pt x="17251" y="12690"/>
                  <a:pt x="17363" y="12700"/>
                </a:cubicBezTo>
                <a:cubicBezTo>
                  <a:pt x="17503" y="12713"/>
                  <a:pt x="17651" y="12711"/>
                  <a:pt x="17785" y="12725"/>
                </a:cubicBezTo>
                <a:cubicBezTo>
                  <a:pt x="17818" y="12728"/>
                  <a:pt x="17851" y="12723"/>
                  <a:pt x="17884" y="12725"/>
                </a:cubicBezTo>
                <a:cubicBezTo>
                  <a:pt x="17854" y="12741"/>
                  <a:pt x="17820" y="12781"/>
                  <a:pt x="17760" y="12799"/>
                </a:cubicBezTo>
                <a:cubicBezTo>
                  <a:pt x="17687" y="12821"/>
                  <a:pt x="17615" y="12821"/>
                  <a:pt x="17537" y="12824"/>
                </a:cubicBezTo>
                <a:cubicBezTo>
                  <a:pt x="17409" y="12829"/>
                  <a:pt x="17251" y="12796"/>
                  <a:pt x="17140" y="12849"/>
                </a:cubicBezTo>
                <a:cubicBezTo>
                  <a:pt x="17111" y="12863"/>
                  <a:pt x="17058" y="12890"/>
                  <a:pt x="17041" y="12923"/>
                </a:cubicBezTo>
                <a:cubicBezTo>
                  <a:pt x="17031" y="12942"/>
                  <a:pt x="17047" y="12977"/>
                  <a:pt x="17041" y="12998"/>
                </a:cubicBezTo>
                <a:cubicBezTo>
                  <a:pt x="17111" y="13003"/>
                  <a:pt x="17168" y="13020"/>
                  <a:pt x="17239" y="13022"/>
                </a:cubicBezTo>
                <a:cubicBezTo>
                  <a:pt x="17360" y="13026"/>
                  <a:pt x="17470" y="13059"/>
                  <a:pt x="17587" y="13072"/>
                </a:cubicBezTo>
                <a:cubicBezTo>
                  <a:pt x="17647" y="13079"/>
                  <a:pt x="17640" y="13090"/>
                  <a:pt x="17661" y="13097"/>
                </a:cubicBezTo>
                <a:cubicBezTo>
                  <a:pt x="17575" y="13104"/>
                  <a:pt x="17500" y="13119"/>
                  <a:pt x="17413" y="13122"/>
                </a:cubicBezTo>
                <a:cubicBezTo>
                  <a:pt x="17319" y="13125"/>
                  <a:pt x="17236" y="13080"/>
                  <a:pt x="17140" y="13097"/>
                </a:cubicBezTo>
                <a:cubicBezTo>
                  <a:pt x="17132" y="13105"/>
                  <a:pt x="17123" y="13114"/>
                  <a:pt x="17115" y="13122"/>
                </a:cubicBezTo>
                <a:cubicBezTo>
                  <a:pt x="17144" y="13144"/>
                  <a:pt x="17137" y="13122"/>
                  <a:pt x="17165" y="13146"/>
                </a:cubicBezTo>
                <a:cubicBezTo>
                  <a:pt x="17204" y="13179"/>
                  <a:pt x="17202" y="13182"/>
                  <a:pt x="17140" y="13221"/>
                </a:cubicBezTo>
                <a:cubicBezTo>
                  <a:pt x="17089" y="13254"/>
                  <a:pt x="17022" y="13232"/>
                  <a:pt x="16966" y="13246"/>
                </a:cubicBezTo>
                <a:cubicBezTo>
                  <a:pt x="16874" y="13268"/>
                  <a:pt x="16945" y="13239"/>
                  <a:pt x="16966" y="13271"/>
                </a:cubicBezTo>
                <a:cubicBezTo>
                  <a:pt x="17067" y="13265"/>
                  <a:pt x="17162" y="13249"/>
                  <a:pt x="17264" y="13246"/>
                </a:cubicBezTo>
                <a:cubicBezTo>
                  <a:pt x="17392" y="13242"/>
                  <a:pt x="17512" y="13226"/>
                  <a:pt x="17636" y="13221"/>
                </a:cubicBezTo>
                <a:cubicBezTo>
                  <a:pt x="17669" y="13220"/>
                  <a:pt x="17702" y="13221"/>
                  <a:pt x="17735" y="13221"/>
                </a:cubicBezTo>
                <a:cubicBezTo>
                  <a:pt x="17677" y="13244"/>
                  <a:pt x="17608" y="13285"/>
                  <a:pt x="17537" y="13295"/>
                </a:cubicBezTo>
                <a:cubicBezTo>
                  <a:pt x="17435" y="13310"/>
                  <a:pt x="17355" y="13339"/>
                  <a:pt x="17264" y="13370"/>
                </a:cubicBezTo>
                <a:cubicBezTo>
                  <a:pt x="17256" y="13370"/>
                  <a:pt x="17247" y="13370"/>
                  <a:pt x="17239" y="13370"/>
                </a:cubicBezTo>
                <a:cubicBezTo>
                  <a:pt x="17310" y="13384"/>
                  <a:pt x="17373" y="13406"/>
                  <a:pt x="17462" y="13395"/>
                </a:cubicBezTo>
                <a:cubicBezTo>
                  <a:pt x="17621" y="13376"/>
                  <a:pt x="17773" y="13349"/>
                  <a:pt x="17934" y="13345"/>
                </a:cubicBezTo>
                <a:cubicBezTo>
                  <a:pt x="18025" y="13343"/>
                  <a:pt x="18116" y="13345"/>
                  <a:pt x="18207" y="13345"/>
                </a:cubicBezTo>
                <a:cubicBezTo>
                  <a:pt x="18117" y="13362"/>
                  <a:pt x="18014" y="13370"/>
                  <a:pt x="17909" y="13370"/>
                </a:cubicBezTo>
                <a:cubicBezTo>
                  <a:pt x="17802" y="13370"/>
                  <a:pt x="17777" y="13370"/>
                  <a:pt x="17711" y="13370"/>
                </a:cubicBezTo>
                <a:cubicBezTo>
                  <a:pt x="17645" y="13370"/>
                  <a:pt x="17563" y="13370"/>
                  <a:pt x="17686" y="13370"/>
                </a:cubicBezTo>
                <a:cubicBezTo>
                  <a:pt x="17831" y="13370"/>
                  <a:pt x="17964" y="13368"/>
                  <a:pt x="18107" y="13345"/>
                </a:cubicBezTo>
                <a:cubicBezTo>
                  <a:pt x="18258" y="13321"/>
                  <a:pt x="18442" y="13293"/>
                  <a:pt x="18579" y="13345"/>
                </a:cubicBezTo>
                <a:cubicBezTo>
                  <a:pt x="18587" y="13353"/>
                  <a:pt x="18596" y="13362"/>
                  <a:pt x="18604" y="13370"/>
                </a:cubicBezTo>
                <a:cubicBezTo>
                  <a:pt x="18534" y="13385"/>
                  <a:pt x="18460" y="13403"/>
                  <a:pt x="18380" y="13419"/>
                </a:cubicBezTo>
                <a:cubicBezTo>
                  <a:pt x="18261" y="13443"/>
                  <a:pt x="18153" y="13444"/>
                  <a:pt x="18033" y="13444"/>
                </a:cubicBezTo>
                <a:cubicBezTo>
                  <a:pt x="18108" y="13444"/>
                  <a:pt x="18132" y="13444"/>
                  <a:pt x="18207" y="13444"/>
                </a:cubicBezTo>
                <a:cubicBezTo>
                  <a:pt x="18416" y="13444"/>
                  <a:pt x="18627" y="13450"/>
                  <a:pt x="18827" y="13469"/>
                </a:cubicBezTo>
                <a:cubicBezTo>
                  <a:pt x="18843" y="13469"/>
                  <a:pt x="18860" y="13469"/>
                  <a:pt x="18876" y="13469"/>
                </a:cubicBezTo>
                <a:cubicBezTo>
                  <a:pt x="18819" y="13503"/>
                  <a:pt x="18777" y="13532"/>
                  <a:pt x="18678" y="13543"/>
                </a:cubicBezTo>
                <a:cubicBezTo>
                  <a:pt x="18517" y="13561"/>
                  <a:pt x="18345" y="13543"/>
                  <a:pt x="18182" y="13543"/>
                </a:cubicBezTo>
                <a:cubicBezTo>
                  <a:pt x="18268" y="13550"/>
                  <a:pt x="18343" y="13566"/>
                  <a:pt x="18430" y="13568"/>
                </a:cubicBezTo>
                <a:cubicBezTo>
                  <a:pt x="18629" y="13573"/>
                  <a:pt x="18835" y="13552"/>
                  <a:pt x="19025" y="13593"/>
                </a:cubicBezTo>
                <a:cubicBezTo>
                  <a:pt x="19070" y="13593"/>
                  <a:pt x="19083" y="13590"/>
                  <a:pt x="19100" y="13618"/>
                </a:cubicBezTo>
                <a:cubicBezTo>
                  <a:pt x="19028" y="13633"/>
                  <a:pt x="18949" y="13657"/>
                  <a:pt x="18876" y="13667"/>
                </a:cubicBezTo>
                <a:cubicBezTo>
                  <a:pt x="18779" y="13680"/>
                  <a:pt x="18672" y="13680"/>
                  <a:pt x="18579" y="13692"/>
                </a:cubicBezTo>
                <a:cubicBezTo>
                  <a:pt x="18571" y="13692"/>
                  <a:pt x="18562" y="13692"/>
                  <a:pt x="18554" y="13692"/>
                </a:cubicBezTo>
                <a:cubicBezTo>
                  <a:pt x="18777" y="13692"/>
                  <a:pt x="19147" y="13621"/>
                  <a:pt x="19348" y="13717"/>
                </a:cubicBezTo>
                <a:cubicBezTo>
                  <a:pt x="19372" y="13717"/>
                  <a:pt x="19380" y="13717"/>
                  <a:pt x="19372" y="13742"/>
                </a:cubicBezTo>
                <a:cubicBezTo>
                  <a:pt x="19365" y="13756"/>
                  <a:pt x="19360" y="13803"/>
                  <a:pt x="19348" y="13816"/>
                </a:cubicBezTo>
                <a:cubicBezTo>
                  <a:pt x="19330" y="13836"/>
                  <a:pt x="19294" y="13822"/>
                  <a:pt x="19273" y="13841"/>
                </a:cubicBezTo>
                <a:cubicBezTo>
                  <a:pt x="19253" y="13859"/>
                  <a:pt x="19246" y="13884"/>
                  <a:pt x="19199" y="13891"/>
                </a:cubicBezTo>
                <a:cubicBezTo>
                  <a:pt x="19114" y="13904"/>
                  <a:pt x="19002" y="13907"/>
                  <a:pt x="18926" y="13915"/>
                </a:cubicBezTo>
                <a:cubicBezTo>
                  <a:pt x="18798" y="13929"/>
                  <a:pt x="18645" y="13929"/>
                  <a:pt x="18529" y="13940"/>
                </a:cubicBezTo>
                <a:cubicBezTo>
                  <a:pt x="18256" y="13965"/>
                  <a:pt x="17943" y="13944"/>
                  <a:pt x="17686" y="13915"/>
                </a:cubicBezTo>
                <a:cubicBezTo>
                  <a:pt x="17526" y="13897"/>
                  <a:pt x="17307" y="13898"/>
                  <a:pt x="17165" y="13940"/>
                </a:cubicBezTo>
                <a:cubicBezTo>
                  <a:pt x="17127" y="13951"/>
                  <a:pt x="17116" y="13972"/>
                  <a:pt x="17066" y="13965"/>
                </a:cubicBezTo>
                <a:cubicBezTo>
                  <a:pt x="17038" y="13961"/>
                  <a:pt x="17028" y="13953"/>
                  <a:pt x="16991" y="13940"/>
                </a:cubicBezTo>
                <a:cubicBezTo>
                  <a:pt x="16958" y="13929"/>
                  <a:pt x="16925" y="13927"/>
                  <a:pt x="16892" y="13915"/>
                </a:cubicBezTo>
                <a:cubicBezTo>
                  <a:pt x="16852" y="13901"/>
                  <a:pt x="16849" y="13901"/>
                  <a:pt x="16818" y="13891"/>
                </a:cubicBezTo>
                <a:cubicBezTo>
                  <a:pt x="16793" y="13891"/>
                  <a:pt x="16785" y="13891"/>
                  <a:pt x="16818" y="13891"/>
                </a:cubicBezTo>
                <a:cubicBezTo>
                  <a:pt x="16855" y="13878"/>
                  <a:pt x="16864" y="13870"/>
                  <a:pt x="16892" y="13866"/>
                </a:cubicBezTo>
                <a:cubicBezTo>
                  <a:pt x="16932" y="13861"/>
                  <a:pt x="16987" y="13844"/>
                  <a:pt x="17016" y="13841"/>
                </a:cubicBezTo>
                <a:cubicBezTo>
                  <a:pt x="17067" y="13835"/>
                  <a:pt x="17071" y="13838"/>
                  <a:pt x="17115" y="13816"/>
                </a:cubicBezTo>
                <a:cubicBezTo>
                  <a:pt x="17151" y="13798"/>
                  <a:pt x="17177" y="13760"/>
                  <a:pt x="17214" y="13742"/>
                </a:cubicBezTo>
                <a:cubicBezTo>
                  <a:pt x="17286" y="13707"/>
                  <a:pt x="17363" y="13673"/>
                  <a:pt x="17438" y="13643"/>
                </a:cubicBezTo>
                <a:cubicBezTo>
                  <a:pt x="17484" y="13625"/>
                  <a:pt x="17541" y="13613"/>
                  <a:pt x="17587" y="13593"/>
                </a:cubicBezTo>
                <a:cubicBezTo>
                  <a:pt x="17639" y="13570"/>
                  <a:pt x="17669" y="13524"/>
                  <a:pt x="17711" y="13494"/>
                </a:cubicBezTo>
                <a:cubicBezTo>
                  <a:pt x="17754" y="13463"/>
                  <a:pt x="17792" y="13427"/>
                  <a:pt x="17835" y="13395"/>
                </a:cubicBezTo>
                <a:cubicBezTo>
                  <a:pt x="17881" y="13360"/>
                  <a:pt x="17939" y="13332"/>
                  <a:pt x="17983" y="13295"/>
                </a:cubicBezTo>
                <a:cubicBezTo>
                  <a:pt x="18043" y="13244"/>
                  <a:pt x="18085" y="13205"/>
                  <a:pt x="18157" y="13171"/>
                </a:cubicBezTo>
                <a:cubicBezTo>
                  <a:pt x="18214" y="13144"/>
                  <a:pt x="18251" y="13140"/>
                  <a:pt x="18306" y="13122"/>
                </a:cubicBezTo>
                <a:cubicBezTo>
                  <a:pt x="18355" y="13106"/>
                  <a:pt x="18405" y="13069"/>
                  <a:pt x="18455" y="13047"/>
                </a:cubicBezTo>
                <a:cubicBezTo>
                  <a:pt x="18493" y="13030"/>
                  <a:pt x="18541" y="13034"/>
                  <a:pt x="18579" y="13022"/>
                </a:cubicBezTo>
                <a:cubicBezTo>
                  <a:pt x="18641" y="13002"/>
                  <a:pt x="18652" y="12980"/>
                  <a:pt x="18703" y="12948"/>
                </a:cubicBezTo>
                <a:cubicBezTo>
                  <a:pt x="18749" y="12919"/>
                  <a:pt x="18810" y="12905"/>
                  <a:pt x="18852" y="12874"/>
                </a:cubicBezTo>
                <a:cubicBezTo>
                  <a:pt x="18951" y="12800"/>
                  <a:pt x="19019" y="12680"/>
                  <a:pt x="19124" y="12626"/>
                </a:cubicBezTo>
                <a:cubicBezTo>
                  <a:pt x="19163" y="12606"/>
                  <a:pt x="19204" y="12583"/>
                  <a:pt x="19248" y="12576"/>
                </a:cubicBezTo>
                <a:cubicBezTo>
                  <a:pt x="19301" y="12568"/>
                  <a:pt x="19326" y="12568"/>
                  <a:pt x="19372" y="12551"/>
                </a:cubicBezTo>
                <a:cubicBezTo>
                  <a:pt x="19404" y="12539"/>
                  <a:pt x="19409" y="12529"/>
                  <a:pt x="19447" y="12502"/>
                </a:cubicBezTo>
                <a:cubicBezTo>
                  <a:pt x="19474" y="12483"/>
                  <a:pt x="19514" y="12449"/>
                  <a:pt x="19546" y="12427"/>
                </a:cubicBezTo>
                <a:cubicBezTo>
                  <a:pt x="19565" y="12414"/>
                  <a:pt x="19582" y="12387"/>
                  <a:pt x="19596" y="12378"/>
                </a:cubicBezTo>
                <a:cubicBezTo>
                  <a:pt x="19612" y="12368"/>
                  <a:pt x="19676" y="12356"/>
                  <a:pt x="19695" y="12353"/>
                </a:cubicBezTo>
                <a:cubicBezTo>
                  <a:pt x="19751" y="12344"/>
                  <a:pt x="19776" y="12363"/>
                  <a:pt x="19819" y="12378"/>
                </a:cubicBezTo>
                <a:cubicBezTo>
                  <a:pt x="19842" y="12386"/>
                  <a:pt x="19865" y="12400"/>
                  <a:pt x="19869" y="1240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92920" y="4429080"/>
            <a:ext cx="519120" cy="581040"/>
          </a:xfrm>
          <a:custGeom>
            <a:avLst/>
            <a:gdLst/>
            <a:ahLst/>
            <a:rect l="l" t="t" r="r" b="b"/>
            <a:pathLst>
              <a:path w="1440" h="1613">
                <a:moveTo>
                  <a:pt x="19149" y="13494"/>
                </a:moveTo>
                <a:cubicBezTo>
                  <a:pt x="19172" y="13471"/>
                  <a:pt x="19193" y="13461"/>
                  <a:pt x="19224" y="13444"/>
                </a:cubicBezTo>
                <a:cubicBezTo>
                  <a:pt x="19263" y="13423"/>
                  <a:pt x="19306" y="13413"/>
                  <a:pt x="19348" y="13395"/>
                </a:cubicBezTo>
                <a:cubicBezTo>
                  <a:pt x="19394" y="13375"/>
                  <a:pt x="19423" y="13362"/>
                  <a:pt x="19472" y="13345"/>
                </a:cubicBezTo>
                <a:cubicBezTo>
                  <a:pt x="19501" y="13335"/>
                  <a:pt x="19543" y="13333"/>
                  <a:pt x="19571" y="13320"/>
                </a:cubicBezTo>
                <a:cubicBezTo>
                  <a:pt x="19575" y="13318"/>
                  <a:pt x="19625" y="13305"/>
                  <a:pt x="19645" y="13295"/>
                </a:cubicBezTo>
                <a:cubicBezTo>
                  <a:pt x="19665" y="13285"/>
                  <a:pt x="19672" y="13274"/>
                  <a:pt x="19720" y="13271"/>
                </a:cubicBezTo>
                <a:cubicBezTo>
                  <a:pt x="19764" y="13268"/>
                  <a:pt x="19779" y="13253"/>
                  <a:pt x="19819" y="13246"/>
                </a:cubicBezTo>
                <a:cubicBezTo>
                  <a:pt x="19884" y="13235"/>
                  <a:pt x="19962" y="13230"/>
                  <a:pt x="20017" y="13221"/>
                </a:cubicBezTo>
                <a:cubicBezTo>
                  <a:pt x="20051" y="13215"/>
                  <a:pt x="20080" y="13231"/>
                  <a:pt x="20092" y="13246"/>
                </a:cubicBezTo>
                <a:cubicBezTo>
                  <a:pt x="20116" y="13277"/>
                  <a:pt x="20126" y="13302"/>
                  <a:pt x="20117" y="13345"/>
                </a:cubicBezTo>
                <a:cubicBezTo>
                  <a:pt x="20107" y="13388"/>
                  <a:pt x="20078" y="13401"/>
                  <a:pt x="20067" y="13419"/>
                </a:cubicBezTo>
                <a:cubicBezTo>
                  <a:pt x="20044" y="13457"/>
                  <a:pt x="20015" y="13497"/>
                  <a:pt x="19993" y="13519"/>
                </a:cubicBezTo>
                <a:cubicBezTo>
                  <a:pt x="19977" y="13535"/>
                  <a:pt x="19947" y="13564"/>
                  <a:pt x="19918" y="13593"/>
                </a:cubicBezTo>
                <a:cubicBezTo>
                  <a:pt x="19883" y="13628"/>
                  <a:pt x="19856" y="13647"/>
                  <a:pt x="19819" y="13667"/>
                </a:cubicBezTo>
                <a:cubicBezTo>
                  <a:pt x="19783" y="13687"/>
                  <a:pt x="19734" y="13729"/>
                  <a:pt x="19695" y="13742"/>
                </a:cubicBezTo>
                <a:cubicBezTo>
                  <a:pt x="19658" y="13754"/>
                  <a:pt x="19630" y="13780"/>
                  <a:pt x="19596" y="13791"/>
                </a:cubicBezTo>
                <a:cubicBezTo>
                  <a:pt x="19551" y="13806"/>
                  <a:pt x="19554" y="13798"/>
                  <a:pt x="19521" y="13816"/>
                </a:cubicBezTo>
                <a:cubicBezTo>
                  <a:pt x="19491" y="13832"/>
                  <a:pt x="19452" y="13827"/>
                  <a:pt x="19422" y="13841"/>
                </a:cubicBezTo>
                <a:cubicBezTo>
                  <a:pt x="19392" y="13855"/>
                  <a:pt x="19386" y="13861"/>
                  <a:pt x="19372" y="13891"/>
                </a:cubicBezTo>
                <a:cubicBezTo>
                  <a:pt x="19372" y="13899"/>
                  <a:pt x="19372" y="13907"/>
                  <a:pt x="19372" y="13915"/>
                </a:cubicBezTo>
                <a:cubicBezTo>
                  <a:pt x="19391" y="13905"/>
                  <a:pt x="19444" y="13867"/>
                  <a:pt x="19447" y="13866"/>
                </a:cubicBezTo>
                <a:cubicBezTo>
                  <a:pt x="19485" y="13849"/>
                  <a:pt x="19536" y="13834"/>
                  <a:pt x="19571" y="13816"/>
                </a:cubicBezTo>
                <a:cubicBezTo>
                  <a:pt x="19608" y="13798"/>
                  <a:pt x="19627" y="13783"/>
                  <a:pt x="19645" y="13767"/>
                </a:cubicBezTo>
                <a:cubicBezTo>
                  <a:pt x="19676" y="13738"/>
                  <a:pt x="19704" y="13708"/>
                  <a:pt x="19720" y="13692"/>
                </a:cubicBezTo>
                <a:cubicBezTo>
                  <a:pt x="19728" y="13684"/>
                  <a:pt x="19763" y="13647"/>
                  <a:pt x="19769" y="13643"/>
                </a:cubicBezTo>
                <a:cubicBezTo>
                  <a:pt x="19805" y="13620"/>
                  <a:pt x="19840" y="13606"/>
                  <a:pt x="19869" y="13568"/>
                </a:cubicBezTo>
                <a:cubicBezTo>
                  <a:pt x="19898" y="13530"/>
                  <a:pt x="19901" y="13523"/>
                  <a:pt x="19918" y="13494"/>
                </a:cubicBezTo>
                <a:cubicBezTo>
                  <a:pt x="19935" y="13465"/>
                  <a:pt x="19929" y="13424"/>
                  <a:pt x="19943" y="13395"/>
                </a:cubicBezTo>
                <a:cubicBezTo>
                  <a:pt x="19959" y="13360"/>
                  <a:pt x="19965" y="13371"/>
                  <a:pt x="19968" y="13320"/>
                </a:cubicBezTo>
                <a:cubicBezTo>
                  <a:pt x="19970" y="13279"/>
                  <a:pt x="19961" y="13268"/>
                  <a:pt x="19943" y="13246"/>
                </a:cubicBezTo>
                <a:cubicBezTo>
                  <a:pt x="19922" y="13220"/>
                  <a:pt x="19902" y="13228"/>
                  <a:pt x="19893" y="13196"/>
                </a:cubicBezTo>
                <a:cubicBezTo>
                  <a:pt x="19883" y="13162"/>
                  <a:pt x="19889" y="13125"/>
                  <a:pt x="19869" y="13097"/>
                </a:cubicBezTo>
                <a:cubicBezTo>
                  <a:pt x="19842" y="13060"/>
                  <a:pt x="19820" y="13032"/>
                  <a:pt x="19794" y="12998"/>
                </a:cubicBezTo>
                <a:cubicBezTo>
                  <a:pt x="19775" y="12973"/>
                  <a:pt x="19774" y="12959"/>
                  <a:pt x="19745" y="12923"/>
                </a:cubicBezTo>
                <a:cubicBezTo>
                  <a:pt x="19729" y="12904"/>
                  <a:pt x="19671" y="12851"/>
                  <a:pt x="19670" y="12849"/>
                </a:cubicBezTo>
                <a:cubicBezTo>
                  <a:pt x="19653" y="12799"/>
                  <a:pt x="19672" y="12737"/>
                  <a:pt x="19695" y="12700"/>
                </a:cubicBezTo>
                <a:cubicBezTo>
                  <a:pt x="19711" y="12674"/>
                  <a:pt x="19711" y="12655"/>
                  <a:pt x="19745" y="12626"/>
                </a:cubicBezTo>
                <a:cubicBezTo>
                  <a:pt x="19755" y="12617"/>
                  <a:pt x="19818" y="12577"/>
                  <a:pt x="19819" y="12576"/>
                </a:cubicBezTo>
                <a:cubicBezTo>
                  <a:pt x="19850" y="12557"/>
                  <a:pt x="19858" y="12535"/>
                  <a:pt x="19893" y="12526"/>
                </a:cubicBezTo>
                <a:cubicBezTo>
                  <a:pt x="19939" y="12514"/>
                  <a:pt x="19934" y="12520"/>
                  <a:pt x="19968" y="12502"/>
                </a:cubicBezTo>
                <a:cubicBezTo>
                  <a:pt x="20002" y="12484"/>
                  <a:pt x="20014" y="12459"/>
                  <a:pt x="20042" y="12452"/>
                </a:cubicBezTo>
                <a:cubicBezTo>
                  <a:pt x="20087" y="12440"/>
                  <a:pt x="20083" y="12434"/>
                  <a:pt x="20117" y="12427"/>
                </a:cubicBezTo>
                <a:cubicBezTo>
                  <a:pt x="20160" y="12418"/>
                  <a:pt x="20175" y="12384"/>
                  <a:pt x="20191" y="12378"/>
                </a:cubicBezTo>
                <a:cubicBezTo>
                  <a:pt x="20223" y="12366"/>
                  <a:pt x="20260" y="12338"/>
                  <a:pt x="20290" y="12328"/>
                </a:cubicBezTo>
                <a:cubicBezTo>
                  <a:pt x="20321" y="12318"/>
                  <a:pt x="20359" y="12308"/>
                  <a:pt x="20389" y="12303"/>
                </a:cubicBezTo>
                <a:cubicBezTo>
                  <a:pt x="20451" y="12293"/>
                  <a:pt x="20525" y="12303"/>
                  <a:pt x="20588" y="1230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6040" y="4384800"/>
            <a:ext cx="820800" cy="652320"/>
          </a:xfrm>
          <a:custGeom>
            <a:avLst/>
            <a:gdLst/>
            <a:ahLst/>
            <a:rect l="l" t="t" r="r" b="b"/>
            <a:pathLst>
              <a:path w="2283" h="1812">
                <a:moveTo>
                  <a:pt x="22895" y="12427"/>
                </a:moveTo>
                <a:cubicBezTo>
                  <a:pt x="22917" y="12378"/>
                  <a:pt x="22930" y="12374"/>
                  <a:pt x="22944" y="12353"/>
                </a:cubicBezTo>
                <a:cubicBezTo>
                  <a:pt x="22907" y="12344"/>
                  <a:pt x="22892" y="12330"/>
                  <a:pt x="22845" y="12328"/>
                </a:cubicBezTo>
                <a:cubicBezTo>
                  <a:pt x="22718" y="12323"/>
                  <a:pt x="22584" y="12342"/>
                  <a:pt x="22473" y="12353"/>
                </a:cubicBezTo>
                <a:cubicBezTo>
                  <a:pt x="22421" y="12358"/>
                  <a:pt x="22384" y="12330"/>
                  <a:pt x="22349" y="12328"/>
                </a:cubicBezTo>
                <a:cubicBezTo>
                  <a:pt x="22247" y="12321"/>
                  <a:pt x="22147" y="12313"/>
                  <a:pt x="22051" y="12303"/>
                </a:cubicBezTo>
                <a:cubicBezTo>
                  <a:pt x="21992" y="12297"/>
                  <a:pt x="21953" y="12292"/>
                  <a:pt x="21903" y="12278"/>
                </a:cubicBezTo>
                <a:cubicBezTo>
                  <a:pt x="21865" y="12267"/>
                  <a:pt x="21844" y="12260"/>
                  <a:pt x="21803" y="12254"/>
                </a:cubicBezTo>
                <a:cubicBezTo>
                  <a:pt x="21733" y="12244"/>
                  <a:pt x="21639" y="12236"/>
                  <a:pt x="21580" y="12229"/>
                </a:cubicBezTo>
                <a:cubicBezTo>
                  <a:pt x="21523" y="12223"/>
                  <a:pt x="21451" y="12209"/>
                  <a:pt x="21406" y="12204"/>
                </a:cubicBezTo>
                <a:cubicBezTo>
                  <a:pt x="21341" y="12197"/>
                  <a:pt x="21261" y="12185"/>
                  <a:pt x="21208" y="12179"/>
                </a:cubicBezTo>
                <a:cubicBezTo>
                  <a:pt x="21122" y="12169"/>
                  <a:pt x="21006" y="12198"/>
                  <a:pt x="20960" y="12204"/>
                </a:cubicBezTo>
                <a:cubicBezTo>
                  <a:pt x="20886" y="12213"/>
                  <a:pt x="20804" y="12215"/>
                  <a:pt x="20762" y="12229"/>
                </a:cubicBezTo>
                <a:cubicBezTo>
                  <a:pt x="20803" y="12229"/>
                  <a:pt x="20795" y="12229"/>
                  <a:pt x="20836" y="12229"/>
                </a:cubicBezTo>
                <a:cubicBezTo>
                  <a:pt x="20909" y="12229"/>
                  <a:pt x="20969" y="12247"/>
                  <a:pt x="21034" y="12254"/>
                </a:cubicBezTo>
                <a:cubicBezTo>
                  <a:pt x="21134" y="12264"/>
                  <a:pt x="21214" y="12287"/>
                  <a:pt x="21307" y="12328"/>
                </a:cubicBezTo>
                <a:cubicBezTo>
                  <a:pt x="21368" y="12355"/>
                  <a:pt x="21425" y="12391"/>
                  <a:pt x="21481" y="12427"/>
                </a:cubicBezTo>
                <a:cubicBezTo>
                  <a:pt x="21515" y="12449"/>
                  <a:pt x="21547" y="12459"/>
                  <a:pt x="21580" y="12477"/>
                </a:cubicBezTo>
                <a:cubicBezTo>
                  <a:pt x="21619" y="12499"/>
                  <a:pt x="21641" y="12524"/>
                  <a:pt x="21679" y="12551"/>
                </a:cubicBezTo>
                <a:cubicBezTo>
                  <a:pt x="21710" y="12573"/>
                  <a:pt x="21745" y="12594"/>
                  <a:pt x="21779" y="12626"/>
                </a:cubicBezTo>
                <a:cubicBezTo>
                  <a:pt x="21815" y="12660"/>
                  <a:pt x="21844" y="12670"/>
                  <a:pt x="21878" y="12700"/>
                </a:cubicBezTo>
                <a:cubicBezTo>
                  <a:pt x="21917" y="12733"/>
                  <a:pt x="21971" y="12772"/>
                  <a:pt x="22002" y="12799"/>
                </a:cubicBezTo>
                <a:cubicBezTo>
                  <a:pt x="22039" y="12831"/>
                  <a:pt x="22063" y="12849"/>
                  <a:pt x="22101" y="12874"/>
                </a:cubicBezTo>
                <a:cubicBezTo>
                  <a:pt x="22133" y="12896"/>
                  <a:pt x="22166" y="12916"/>
                  <a:pt x="22200" y="12948"/>
                </a:cubicBezTo>
                <a:cubicBezTo>
                  <a:pt x="22239" y="12985"/>
                  <a:pt x="22292" y="13019"/>
                  <a:pt x="22324" y="13047"/>
                </a:cubicBezTo>
                <a:cubicBezTo>
                  <a:pt x="22375" y="13091"/>
                  <a:pt x="22341" y="13073"/>
                  <a:pt x="22399" y="13097"/>
                </a:cubicBezTo>
                <a:cubicBezTo>
                  <a:pt x="22437" y="13113"/>
                  <a:pt x="22448" y="13129"/>
                  <a:pt x="22498" y="13122"/>
                </a:cubicBezTo>
                <a:cubicBezTo>
                  <a:pt x="22555" y="13113"/>
                  <a:pt x="22577" y="13105"/>
                  <a:pt x="22622" y="13072"/>
                </a:cubicBezTo>
                <a:cubicBezTo>
                  <a:pt x="22655" y="13048"/>
                  <a:pt x="22680" y="13014"/>
                  <a:pt x="22696" y="12998"/>
                </a:cubicBezTo>
                <a:cubicBezTo>
                  <a:pt x="22731" y="12963"/>
                  <a:pt x="22747" y="12936"/>
                  <a:pt x="22771" y="12898"/>
                </a:cubicBezTo>
                <a:cubicBezTo>
                  <a:pt x="22783" y="12879"/>
                  <a:pt x="22789" y="12844"/>
                  <a:pt x="22820" y="12824"/>
                </a:cubicBezTo>
                <a:cubicBezTo>
                  <a:pt x="22848" y="12806"/>
                  <a:pt x="22880" y="12784"/>
                  <a:pt x="22920" y="12799"/>
                </a:cubicBezTo>
                <a:cubicBezTo>
                  <a:pt x="22960" y="12814"/>
                  <a:pt x="22972" y="12839"/>
                  <a:pt x="22994" y="12874"/>
                </a:cubicBezTo>
                <a:cubicBezTo>
                  <a:pt x="23002" y="12886"/>
                  <a:pt x="23019" y="12960"/>
                  <a:pt x="23019" y="12973"/>
                </a:cubicBezTo>
                <a:cubicBezTo>
                  <a:pt x="23017" y="13020"/>
                  <a:pt x="22988" y="13029"/>
                  <a:pt x="22969" y="13047"/>
                </a:cubicBezTo>
                <a:cubicBezTo>
                  <a:pt x="22938" y="13076"/>
                  <a:pt x="22906" y="13083"/>
                  <a:pt x="22870" y="13097"/>
                </a:cubicBezTo>
                <a:cubicBezTo>
                  <a:pt x="22804" y="13123"/>
                  <a:pt x="22765" y="13109"/>
                  <a:pt x="22696" y="13122"/>
                </a:cubicBezTo>
                <a:cubicBezTo>
                  <a:pt x="22625" y="13136"/>
                  <a:pt x="22542" y="13164"/>
                  <a:pt x="22473" y="13171"/>
                </a:cubicBezTo>
                <a:cubicBezTo>
                  <a:pt x="22406" y="13178"/>
                  <a:pt x="22361" y="13189"/>
                  <a:pt x="22299" y="13196"/>
                </a:cubicBezTo>
                <a:cubicBezTo>
                  <a:pt x="22256" y="13201"/>
                  <a:pt x="22207" y="13217"/>
                  <a:pt x="22175" y="13221"/>
                </a:cubicBezTo>
                <a:cubicBezTo>
                  <a:pt x="22151" y="13221"/>
                  <a:pt x="22142" y="13221"/>
                  <a:pt x="22126" y="13221"/>
                </a:cubicBezTo>
                <a:cubicBezTo>
                  <a:pt x="22165" y="13244"/>
                  <a:pt x="22201" y="13282"/>
                  <a:pt x="22250" y="13295"/>
                </a:cubicBezTo>
                <a:cubicBezTo>
                  <a:pt x="22334" y="13317"/>
                  <a:pt x="22461" y="13310"/>
                  <a:pt x="22547" y="13320"/>
                </a:cubicBezTo>
                <a:cubicBezTo>
                  <a:pt x="22627" y="13329"/>
                  <a:pt x="22697" y="13332"/>
                  <a:pt x="22771" y="13345"/>
                </a:cubicBezTo>
                <a:cubicBezTo>
                  <a:pt x="22779" y="13345"/>
                  <a:pt x="22788" y="13345"/>
                  <a:pt x="22796" y="13345"/>
                </a:cubicBezTo>
                <a:cubicBezTo>
                  <a:pt x="22794" y="13346"/>
                  <a:pt x="22744" y="13391"/>
                  <a:pt x="22721" y="13395"/>
                </a:cubicBezTo>
                <a:cubicBezTo>
                  <a:pt x="22620" y="13412"/>
                  <a:pt x="22503" y="13395"/>
                  <a:pt x="22399" y="13395"/>
                </a:cubicBezTo>
                <a:cubicBezTo>
                  <a:pt x="22558" y="13395"/>
                  <a:pt x="22726" y="13394"/>
                  <a:pt x="22870" y="13419"/>
                </a:cubicBezTo>
                <a:cubicBezTo>
                  <a:pt x="22878" y="13419"/>
                  <a:pt x="22887" y="13419"/>
                  <a:pt x="22895" y="13419"/>
                </a:cubicBezTo>
                <a:cubicBezTo>
                  <a:pt x="22876" y="13429"/>
                  <a:pt x="22818" y="13479"/>
                  <a:pt x="22771" y="13494"/>
                </a:cubicBezTo>
                <a:cubicBezTo>
                  <a:pt x="22701" y="13516"/>
                  <a:pt x="22594" y="13535"/>
                  <a:pt x="22523" y="13543"/>
                </a:cubicBezTo>
                <a:cubicBezTo>
                  <a:pt x="22482" y="13548"/>
                  <a:pt x="22440" y="13541"/>
                  <a:pt x="22399" y="13543"/>
                </a:cubicBezTo>
                <a:cubicBezTo>
                  <a:pt x="22464" y="13554"/>
                  <a:pt x="22533" y="13556"/>
                  <a:pt x="22597" y="13568"/>
                </a:cubicBezTo>
                <a:cubicBezTo>
                  <a:pt x="22658" y="13580"/>
                  <a:pt x="22712" y="13600"/>
                  <a:pt x="22771" y="13618"/>
                </a:cubicBezTo>
                <a:cubicBezTo>
                  <a:pt x="22747" y="13628"/>
                  <a:pt x="22707" y="13658"/>
                  <a:pt x="22647" y="13667"/>
                </a:cubicBezTo>
                <a:cubicBezTo>
                  <a:pt x="22513" y="13687"/>
                  <a:pt x="22361" y="13667"/>
                  <a:pt x="22225" y="13667"/>
                </a:cubicBezTo>
                <a:cubicBezTo>
                  <a:pt x="22249" y="13674"/>
                  <a:pt x="22319" y="13685"/>
                  <a:pt x="22374" y="13692"/>
                </a:cubicBezTo>
                <a:cubicBezTo>
                  <a:pt x="22454" y="13703"/>
                  <a:pt x="22537" y="13734"/>
                  <a:pt x="22622" y="13742"/>
                </a:cubicBezTo>
                <a:cubicBezTo>
                  <a:pt x="22663" y="13742"/>
                  <a:pt x="22671" y="13742"/>
                  <a:pt x="22696" y="13742"/>
                </a:cubicBezTo>
                <a:cubicBezTo>
                  <a:pt x="22687" y="13746"/>
                  <a:pt x="22610" y="13786"/>
                  <a:pt x="22572" y="13791"/>
                </a:cubicBezTo>
                <a:cubicBezTo>
                  <a:pt x="22466" y="13804"/>
                  <a:pt x="22389" y="13734"/>
                  <a:pt x="22299" y="13791"/>
                </a:cubicBezTo>
                <a:cubicBezTo>
                  <a:pt x="22280" y="13803"/>
                  <a:pt x="22271" y="13833"/>
                  <a:pt x="22225" y="13841"/>
                </a:cubicBezTo>
                <a:cubicBezTo>
                  <a:pt x="22111" y="13860"/>
                  <a:pt x="22042" y="13841"/>
                  <a:pt x="21927" y="13841"/>
                </a:cubicBezTo>
                <a:cubicBezTo>
                  <a:pt x="21932" y="13843"/>
                  <a:pt x="21972" y="13858"/>
                  <a:pt x="22002" y="13866"/>
                </a:cubicBezTo>
                <a:cubicBezTo>
                  <a:pt x="22056" y="13880"/>
                  <a:pt x="22118" y="13909"/>
                  <a:pt x="22175" y="13915"/>
                </a:cubicBezTo>
                <a:cubicBezTo>
                  <a:pt x="22238" y="13922"/>
                  <a:pt x="22294" y="13907"/>
                  <a:pt x="22349" y="13891"/>
                </a:cubicBezTo>
                <a:cubicBezTo>
                  <a:pt x="22393" y="13879"/>
                  <a:pt x="22453" y="13848"/>
                  <a:pt x="22498" y="13841"/>
                </a:cubicBezTo>
                <a:cubicBezTo>
                  <a:pt x="22548" y="13834"/>
                  <a:pt x="22578" y="13829"/>
                  <a:pt x="22622" y="13816"/>
                </a:cubicBezTo>
                <a:cubicBezTo>
                  <a:pt x="22676" y="13800"/>
                  <a:pt x="22711" y="13793"/>
                  <a:pt x="22771" y="13791"/>
                </a:cubicBezTo>
                <a:cubicBezTo>
                  <a:pt x="22842" y="13788"/>
                  <a:pt x="22912" y="13782"/>
                  <a:pt x="22969" y="13816"/>
                </a:cubicBezTo>
                <a:cubicBezTo>
                  <a:pt x="23001" y="13835"/>
                  <a:pt x="23007" y="13871"/>
                  <a:pt x="23019" y="13891"/>
                </a:cubicBezTo>
                <a:cubicBezTo>
                  <a:pt x="22976" y="13905"/>
                  <a:pt x="22978" y="13903"/>
                  <a:pt x="22944" y="13915"/>
                </a:cubicBezTo>
                <a:cubicBezTo>
                  <a:pt x="22912" y="13927"/>
                  <a:pt x="22851" y="13958"/>
                  <a:pt x="22820" y="13965"/>
                </a:cubicBezTo>
                <a:cubicBezTo>
                  <a:pt x="22678" y="13997"/>
                  <a:pt x="22435" y="13976"/>
                  <a:pt x="22324" y="13990"/>
                </a:cubicBezTo>
                <a:cubicBezTo>
                  <a:pt x="22279" y="13996"/>
                  <a:pt x="22259" y="13967"/>
                  <a:pt x="22250" y="1396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27880" y="4633920"/>
            <a:ext cx="731880" cy="457200"/>
          </a:xfrm>
          <a:custGeom>
            <a:avLst/>
            <a:gdLst/>
            <a:ahLst/>
            <a:rect l="l" t="t" r="r" b="b"/>
            <a:pathLst>
              <a:path w="2035" h="1266">
                <a:moveTo>
                  <a:pt x="19571" y="12973"/>
                </a:moveTo>
                <a:cubicBezTo>
                  <a:pt x="19534" y="12985"/>
                  <a:pt x="19513" y="12992"/>
                  <a:pt x="19472" y="12998"/>
                </a:cubicBezTo>
                <a:cubicBezTo>
                  <a:pt x="19436" y="13003"/>
                  <a:pt x="19434" y="13045"/>
                  <a:pt x="19397" y="13047"/>
                </a:cubicBezTo>
                <a:cubicBezTo>
                  <a:pt x="19338" y="13050"/>
                  <a:pt x="19348" y="13036"/>
                  <a:pt x="19323" y="12998"/>
                </a:cubicBezTo>
                <a:cubicBezTo>
                  <a:pt x="19296" y="12958"/>
                  <a:pt x="19304" y="12969"/>
                  <a:pt x="19298" y="12923"/>
                </a:cubicBezTo>
                <a:cubicBezTo>
                  <a:pt x="19371" y="12923"/>
                  <a:pt x="19429" y="12909"/>
                  <a:pt x="19496" y="12898"/>
                </a:cubicBezTo>
                <a:cubicBezTo>
                  <a:pt x="19565" y="12887"/>
                  <a:pt x="19660" y="12881"/>
                  <a:pt x="19720" y="12874"/>
                </a:cubicBezTo>
                <a:cubicBezTo>
                  <a:pt x="19768" y="12868"/>
                  <a:pt x="19781" y="12879"/>
                  <a:pt x="19819" y="12898"/>
                </a:cubicBezTo>
                <a:cubicBezTo>
                  <a:pt x="19850" y="12914"/>
                  <a:pt x="19851" y="12926"/>
                  <a:pt x="19893" y="12948"/>
                </a:cubicBezTo>
                <a:cubicBezTo>
                  <a:pt x="19933" y="12969"/>
                  <a:pt x="19940" y="12981"/>
                  <a:pt x="19968" y="12998"/>
                </a:cubicBezTo>
                <a:cubicBezTo>
                  <a:pt x="20021" y="13030"/>
                  <a:pt x="19990" y="13025"/>
                  <a:pt x="20017" y="13072"/>
                </a:cubicBezTo>
                <a:cubicBezTo>
                  <a:pt x="20019" y="13075"/>
                  <a:pt x="20056" y="13132"/>
                  <a:pt x="20067" y="13146"/>
                </a:cubicBezTo>
                <a:cubicBezTo>
                  <a:pt x="20084" y="13169"/>
                  <a:pt x="20102" y="13191"/>
                  <a:pt x="20117" y="13221"/>
                </a:cubicBezTo>
                <a:cubicBezTo>
                  <a:pt x="20133" y="13251"/>
                  <a:pt x="20124" y="13257"/>
                  <a:pt x="20141" y="13295"/>
                </a:cubicBezTo>
                <a:cubicBezTo>
                  <a:pt x="20157" y="13331"/>
                  <a:pt x="20177" y="13347"/>
                  <a:pt x="20166" y="13395"/>
                </a:cubicBezTo>
                <a:cubicBezTo>
                  <a:pt x="20155" y="13443"/>
                  <a:pt x="20107" y="13472"/>
                  <a:pt x="20092" y="13494"/>
                </a:cubicBezTo>
                <a:cubicBezTo>
                  <a:pt x="20068" y="13530"/>
                  <a:pt x="20055" y="13564"/>
                  <a:pt x="20017" y="13593"/>
                </a:cubicBezTo>
                <a:cubicBezTo>
                  <a:pt x="19987" y="13616"/>
                  <a:pt x="19944" y="13623"/>
                  <a:pt x="19918" y="13643"/>
                </a:cubicBezTo>
                <a:cubicBezTo>
                  <a:pt x="19906" y="13652"/>
                  <a:pt x="19876" y="13705"/>
                  <a:pt x="19844" y="13717"/>
                </a:cubicBezTo>
                <a:cubicBezTo>
                  <a:pt x="19811" y="13730"/>
                  <a:pt x="19777" y="13728"/>
                  <a:pt x="19745" y="13742"/>
                </a:cubicBezTo>
                <a:cubicBezTo>
                  <a:pt x="19705" y="13760"/>
                  <a:pt x="19626" y="13772"/>
                  <a:pt x="19596" y="13791"/>
                </a:cubicBezTo>
                <a:cubicBezTo>
                  <a:pt x="19569" y="13808"/>
                  <a:pt x="19544" y="13828"/>
                  <a:pt x="19496" y="13841"/>
                </a:cubicBezTo>
                <a:cubicBezTo>
                  <a:pt x="19447" y="13854"/>
                  <a:pt x="19413" y="13871"/>
                  <a:pt x="19372" y="13891"/>
                </a:cubicBezTo>
                <a:cubicBezTo>
                  <a:pt x="19317" y="13918"/>
                  <a:pt x="19297" y="13934"/>
                  <a:pt x="19248" y="13965"/>
                </a:cubicBezTo>
                <a:cubicBezTo>
                  <a:pt x="19209" y="13990"/>
                  <a:pt x="19168" y="13996"/>
                  <a:pt x="19124" y="14015"/>
                </a:cubicBezTo>
                <a:cubicBezTo>
                  <a:pt x="19083" y="14032"/>
                  <a:pt x="19040" y="14046"/>
                  <a:pt x="19000" y="14064"/>
                </a:cubicBezTo>
                <a:cubicBezTo>
                  <a:pt x="18955" y="14084"/>
                  <a:pt x="18929" y="14077"/>
                  <a:pt x="18876" y="14089"/>
                </a:cubicBezTo>
                <a:cubicBezTo>
                  <a:pt x="18837" y="14098"/>
                  <a:pt x="18813" y="14102"/>
                  <a:pt x="18777" y="14114"/>
                </a:cubicBezTo>
                <a:cubicBezTo>
                  <a:pt x="18724" y="14132"/>
                  <a:pt x="18692" y="14139"/>
                  <a:pt x="18628" y="14139"/>
                </a:cubicBezTo>
                <a:cubicBezTo>
                  <a:pt x="18489" y="14139"/>
                  <a:pt x="18274" y="14177"/>
                  <a:pt x="18157" y="14114"/>
                </a:cubicBezTo>
                <a:cubicBezTo>
                  <a:pt x="18149" y="14106"/>
                  <a:pt x="18140" y="14097"/>
                  <a:pt x="18132" y="1408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37200" y="5715000"/>
            <a:ext cx="1830600" cy="88920"/>
          </a:xfrm>
          <a:custGeom>
            <a:avLst/>
            <a:gdLst/>
            <a:ahLst/>
            <a:rect l="l" t="t" r="r" b="b"/>
            <a:pathLst>
              <a:path w="5086" h="249">
                <a:moveTo>
                  <a:pt x="16768" y="16024"/>
                </a:moveTo>
                <a:cubicBezTo>
                  <a:pt x="16866" y="16024"/>
                  <a:pt x="16957" y="16023"/>
                  <a:pt x="17041" y="15999"/>
                </a:cubicBezTo>
                <a:cubicBezTo>
                  <a:pt x="17092" y="15984"/>
                  <a:pt x="17138" y="15990"/>
                  <a:pt x="17190" y="15974"/>
                </a:cubicBezTo>
                <a:cubicBezTo>
                  <a:pt x="17228" y="15963"/>
                  <a:pt x="17246" y="15953"/>
                  <a:pt x="17289" y="15949"/>
                </a:cubicBezTo>
                <a:cubicBezTo>
                  <a:pt x="17341" y="15944"/>
                  <a:pt x="17369" y="15937"/>
                  <a:pt x="17413" y="15925"/>
                </a:cubicBezTo>
                <a:cubicBezTo>
                  <a:pt x="17451" y="15914"/>
                  <a:pt x="17469" y="15905"/>
                  <a:pt x="17512" y="15900"/>
                </a:cubicBezTo>
                <a:cubicBezTo>
                  <a:pt x="17559" y="15894"/>
                  <a:pt x="17626" y="15878"/>
                  <a:pt x="17661" y="15875"/>
                </a:cubicBezTo>
                <a:cubicBezTo>
                  <a:pt x="17929" y="15850"/>
                  <a:pt x="18220" y="15876"/>
                  <a:pt x="18479" y="15900"/>
                </a:cubicBezTo>
                <a:cubicBezTo>
                  <a:pt x="18608" y="15912"/>
                  <a:pt x="18762" y="15916"/>
                  <a:pt x="18876" y="15925"/>
                </a:cubicBezTo>
                <a:cubicBezTo>
                  <a:pt x="18965" y="15932"/>
                  <a:pt x="19043" y="15907"/>
                  <a:pt x="19124" y="15900"/>
                </a:cubicBezTo>
                <a:cubicBezTo>
                  <a:pt x="19212" y="15892"/>
                  <a:pt x="19322" y="15881"/>
                  <a:pt x="19397" y="15875"/>
                </a:cubicBezTo>
                <a:cubicBezTo>
                  <a:pt x="19455" y="15870"/>
                  <a:pt x="19478" y="15890"/>
                  <a:pt x="19521" y="15900"/>
                </a:cubicBezTo>
                <a:cubicBezTo>
                  <a:pt x="19557" y="15908"/>
                  <a:pt x="19612" y="15908"/>
                  <a:pt x="19645" y="15925"/>
                </a:cubicBezTo>
                <a:cubicBezTo>
                  <a:pt x="19682" y="15944"/>
                  <a:pt x="19703" y="15966"/>
                  <a:pt x="19745" y="15974"/>
                </a:cubicBezTo>
                <a:cubicBezTo>
                  <a:pt x="19769" y="15974"/>
                  <a:pt x="19778" y="15974"/>
                  <a:pt x="19794" y="15974"/>
                </a:cubicBezTo>
                <a:cubicBezTo>
                  <a:pt x="19805" y="15980"/>
                  <a:pt x="19838" y="16015"/>
                  <a:pt x="19869" y="16024"/>
                </a:cubicBezTo>
                <a:cubicBezTo>
                  <a:pt x="19877" y="16024"/>
                  <a:pt x="19885" y="16024"/>
                  <a:pt x="19893" y="16024"/>
                </a:cubicBezTo>
                <a:cubicBezTo>
                  <a:pt x="19916" y="16059"/>
                  <a:pt x="19893" y="16041"/>
                  <a:pt x="19943" y="16049"/>
                </a:cubicBezTo>
                <a:cubicBezTo>
                  <a:pt x="19950" y="16075"/>
                  <a:pt x="19953" y="16078"/>
                  <a:pt x="19968" y="16098"/>
                </a:cubicBezTo>
                <a:cubicBezTo>
                  <a:pt x="20017" y="16110"/>
                  <a:pt x="19990" y="16102"/>
                  <a:pt x="20017" y="16123"/>
                </a:cubicBezTo>
                <a:cubicBezTo>
                  <a:pt x="20069" y="16116"/>
                  <a:pt x="20098" y="16111"/>
                  <a:pt x="20141" y="16098"/>
                </a:cubicBezTo>
                <a:cubicBezTo>
                  <a:pt x="20174" y="16088"/>
                  <a:pt x="20210" y="16056"/>
                  <a:pt x="20241" y="16049"/>
                </a:cubicBezTo>
                <a:cubicBezTo>
                  <a:pt x="20287" y="16039"/>
                  <a:pt x="20342" y="16052"/>
                  <a:pt x="20389" y="16049"/>
                </a:cubicBezTo>
                <a:cubicBezTo>
                  <a:pt x="20392" y="16048"/>
                  <a:pt x="20431" y="16029"/>
                  <a:pt x="20464" y="16024"/>
                </a:cubicBezTo>
                <a:cubicBezTo>
                  <a:pt x="20489" y="16024"/>
                  <a:pt x="20497" y="16024"/>
                  <a:pt x="20513" y="16024"/>
                </a:cubicBezTo>
                <a:cubicBezTo>
                  <a:pt x="20515" y="16024"/>
                  <a:pt x="20554" y="16046"/>
                  <a:pt x="20588" y="16049"/>
                </a:cubicBezTo>
                <a:cubicBezTo>
                  <a:pt x="20776" y="16069"/>
                  <a:pt x="20987" y="16040"/>
                  <a:pt x="21158" y="16024"/>
                </a:cubicBezTo>
                <a:cubicBezTo>
                  <a:pt x="21246" y="16016"/>
                  <a:pt x="21334" y="16042"/>
                  <a:pt x="21406" y="16049"/>
                </a:cubicBezTo>
                <a:cubicBezTo>
                  <a:pt x="21532" y="16060"/>
                  <a:pt x="21695" y="16062"/>
                  <a:pt x="21803" y="16024"/>
                </a:cubicBezTo>
                <a:cubicBezTo>
                  <a:pt x="21830" y="16014"/>
                  <a:pt x="21845" y="16003"/>
                  <a:pt x="21853" y="1599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0800" y="5769000"/>
            <a:ext cx="438120" cy="615960"/>
          </a:xfrm>
          <a:custGeom>
            <a:avLst/>
            <a:gdLst/>
            <a:ahLst/>
            <a:rect l="l" t="t" r="r" b="b"/>
            <a:pathLst>
              <a:path w="1216" h="1712">
                <a:moveTo>
                  <a:pt x="22944" y="16173"/>
                </a:moveTo>
                <a:cubicBezTo>
                  <a:pt x="22968" y="16149"/>
                  <a:pt x="22978" y="16160"/>
                  <a:pt x="22994" y="16123"/>
                </a:cubicBezTo>
                <a:cubicBezTo>
                  <a:pt x="22994" y="16115"/>
                  <a:pt x="22994" y="16106"/>
                  <a:pt x="22994" y="16098"/>
                </a:cubicBezTo>
                <a:cubicBezTo>
                  <a:pt x="22948" y="16064"/>
                  <a:pt x="22951" y="16055"/>
                  <a:pt x="22895" y="16049"/>
                </a:cubicBezTo>
                <a:cubicBezTo>
                  <a:pt x="22848" y="16044"/>
                  <a:pt x="22818" y="16016"/>
                  <a:pt x="22771" y="16024"/>
                </a:cubicBezTo>
                <a:cubicBezTo>
                  <a:pt x="22720" y="16033"/>
                  <a:pt x="22655" y="16085"/>
                  <a:pt x="22597" y="16098"/>
                </a:cubicBezTo>
                <a:cubicBezTo>
                  <a:pt x="22427" y="16135"/>
                  <a:pt x="22185" y="16099"/>
                  <a:pt x="22027" y="16073"/>
                </a:cubicBezTo>
                <a:cubicBezTo>
                  <a:pt x="21973" y="16064"/>
                  <a:pt x="21945" y="16079"/>
                  <a:pt x="21903" y="16098"/>
                </a:cubicBezTo>
                <a:cubicBezTo>
                  <a:pt x="21875" y="16111"/>
                  <a:pt x="21837" y="16169"/>
                  <a:pt x="21828" y="16173"/>
                </a:cubicBezTo>
                <a:cubicBezTo>
                  <a:pt x="21803" y="16173"/>
                  <a:pt x="21795" y="16173"/>
                  <a:pt x="21779" y="16173"/>
                </a:cubicBezTo>
                <a:cubicBezTo>
                  <a:pt x="21797" y="16202"/>
                  <a:pt x="21812" y="16253"/>
                  <a:pt x="21853" y="16272"/>
                </a:cubicBezTo>
                <a:cubicBezTo>
                  <a:pt x="21875" y="16282"/>
                  <a:pt x="21962" y="16295"/>
                  <a:pt x="21977" y="16297"/>
                </a:cubicBezTo>
                <a:cubicBezTo>
                  <a:pt x="22036" y="16306"/>
                  <a:pt x="22074" y="16337"/>
                  <a:pt x="22126" y="16346"/>
                </a:cubicBezTo>
                <a:cubicBezTo>
                  <a:pt x="22175" y="16354"/>
                  <a:pt x="22208" y="16352"/>
                  <a:pt x="22250" y="16371"/>
                </a:cubicBezTo>
                <a:cubicBezTo>
                  <a:pt x="22259" y="16375"/>
                  <a:pt x="22349" y="16421"/>
                  <a:pt x="22349" y="16421"/>
                </a:cubicBezTo>
                <a:cubicBezTo>
                  <a:pt x="22385" y="16484"/>
                  <a:pt x="22332" y="16468"/>
                  <a:pt x="22275" y="16470"/>
                </a:cubicBezTo>
                <a:cubicBezTo>
                  <a:pt x="22221" y="16472"/>
                  <a:pt x="22192" y="16485"/>
                  <a:pt x="22151" y="16495"/>
                </a:cubicBezTo>
                <a:cubicBezTo>
                  <a:pt x="22143" y="16495"/>
                  <a:pt x="22134" y="16495"/>
                  <a:pt x="22126" y="16495"/>
                </a:cubicBezTo>
                <a:cubicBezTo>
                  <a:pt x="22150" y="16504"/>
                  <a:pt x="22222" y="16508"/>
                  <a:pt x="22275" y="16520"/>
                </a:cubicBezTo>
                <a:cubicBezTo>
                  <a:pt x="22363" y="16539"/>
                  <a:pt x="22463" y="16544"/>
                  <a:pt x="22547" y="16570"/>
                </a:cubicBezTo>
                <a:cubicBezTo>
                  <a:pt x="22584" y="16581"/>
                  <a:pt x="22637" y="16614"/>
                  <a:pt x="22647" y="16619"/>
                </a:cubicBezTo>
                <a:cubicBezTo>
                  <a:pt x="22578" y="16634"/>
                  <a:pt x="22506" y="16644"/>
                  <a:pt x="22423" y="16644"/>
                </a:cubicBezTo>
                <a:cubicBezTo>
                  <a:pt x="22374" y="16644"/>
                  <a:pt x="22324" y="16644"/>
                  <a:pt x="22275" y="16644"/>
                </a:cubicBezTo>
                <a:cubicBezTo>
                  <a:pt x="22306" y="16663"/>
                  <a:pt x="22350" y="16683"/>
                  <a:pt x="22423" y="16669"/>
                </a:cubicBezTo>
                <a:cubicBezTo>
                  <a:pt x="22524" y="16650"/>
                  <a:pt x="22641" y="16621"/>
                  <a:pt x="22746" y="16644"/>
                </a:cubicBezTo>
                <a:cubicBezTo>
                  <a:pt x="22793" y="16654"/>
                  <a:pt x="22878" y="16688"/>
                  <a:pt x="22895" y="16694"/>
                </a:cubicBezTo>
                <a:cubicBezTo>
                  <a:pt x="22841" y="16708"/>
                  <a:pt x="22775" y="16736"/>
                  <a:pt x="22721" y="16743"/>
                </a:cubicBezTo>
                <a:cubicBezTo>
                  <a:pt x="22642" y="16753"/>
                  <a:pt x="22566" y="16777"/>
                  <a:pt x="22498" y="16793"/>
                </a:cubicBezTo>
                <a:cubicBezTo>
                  <a:pt x="22490" y="16793"/>
                  <a:pt x="22481" y="16793"/>
                  <a:pt x="22473" y="16793"/>
                </a:cubicBezTo>
                <a:cubicBezTo>
                  <a:pt x="22597" y="16793"/>
                  <a:pt x="22721" y="16793"/>
                  <a:pt x="22845" y="16793"/>
                </a:cubicBezTo>
                <a:cubicBezTo>
                  <a:pt x="22800" y="16819"/>
                  <a:pt x="22819" y="16838"/>
                  <a:pt x="22721" y="16842"/>
                </a:cubicBezTo>
                <a:cubicBezTo>
                  <a:pt x="22610" y="16846"/>
                  <a:pt x="22528" y="16849"/>
                  <a:pt x="22423" y="16892"/>
                </a:cubicBezTo>
                <a:cubicBezTo>
                  <a:pt x="22376" y="16911"/>
                  <a:pt x="22360" y="16935"/>
                  <a:pt x="22324" y="16966"/>
                </a:cubicBezTo>
                <a:cubicBezTo>
                  <a:pt x="22338" y="16971"/>
                  <a:pt x="22429" y="17011"/>
                  <a:pt x="22473" y="17016"/>
                </a:cubicBezTo>
                <a:cubicBezTo>
                  <a:pt x="22579" y="17027"/>
                  <a:pt x="22672" y="16999"/>
                  <a:pt x="22771" y="17041"/>
                </a:cubicBezTo>
                <a:cubicBezTo>
                  <a:pt x="22799" y="17041"/>
                  <a:pt x="22810" y="17043"/>
                  <a:pt x="22820" y="17066"/>
                </a:cubicBezTo>
                <a:cubicBezTo>
                  <a:pt x="22776" y="17097"/>
                  <a:pt x="22750" y="17128"/>
                  <a:pt x="22671" y="17140"/>
                </a:cubicBezTo>
                <a:cubicBezTo>
                  <a:pt x="22580" y="17154"/>
                  <a:pt x="22487" y="17176"/>
                  <a:pt x="22399" y="17190"/>
                </a:cubicBezTo>
                <a:cubicBezTo>
                  <a:pt x="22374" y="17190"/>
                  <a:pt x="22366" y="17190"/>
                  <a:pt x="22349" y="17190"/>
                </a:cubicBezTo>
                <a:cubicBezTo>
                  <a:pt x="22419" y="17190"/>
                  <a:pt x="22480" y="17207"/>
                  <a:pt x="22547" y="17214"/>
                </a:cubicBezTo>
                <a:cubicBezTo>
                  <a:pt x="22616" y="17221"/>
                  <a:pt x="22678" y="17231"/>
                  <a:pt x="22746" y="17239"/>
                </a:cubicBezTo>
                <a:cubicBezTo>
                  <a:pt x="22710" y="17261"/>
                  <a:pt x="22673" y="17264"/>
                  <a:pt x="22597" y="17264"/>
                </a:cubicBezTo>
                <a:cubicBezTo>
                  <a:pt x="22504" y="17264"/>
                  <a:pt x="22382" y="17241"/>
                  <a:pt x="22299" y="17289"/>
                </a:cubicBezTo>
                <a:cubicBezTo>
                  <a:pt x="22291" y="17297"/>
                  <a:pt x="22283" y="17306"/>
                  <a:pt x="22275" y="17314"/>
                </a:cubicBezTo>
                <a:cubicBezTo>
                  <a:pt x="22465" y="17314"/>
                  <a:pt x="22655" y="17314"/>
                  <a:pt x="22845" y="17314"/>
                </a:cubicBezTo>
                <a:cubicBezTo>
                  <a:pt x="22803" y="17364"/>
                  <a:pt x="22806" y="17363"/>
                  <a:pt x="22721" y="17363"/>
                </a:cubicBezTo>
                <a:cubicBezTo>
                  <a:pt x="22622" y="17363"/>
                  <a:pt x="22522" y="17363"/>
                  <a:pt x="22423" y="17363"/>
                </a:cubicBezTo>
                <a:cubicBezTo>
                  <a:pt x="22558" y="17363"/>
                  <a:pt x="22723" y="17333"/>
                  <a:pt x="22845" y="17388"/>
                </a:cubicBezTo>
                <a:cubicBezTo>
                  <a:pt x="22907" y="17416"/>
                  <a:pt x="22943" y="17415"/>
                  <a:pt x="22870" y="17438"/>
                </a:cubicBezTo>
                <a:cubicBezTo>
                  <a:pt x="22822" y="17453"/>
                  <a:pt x="22746" y="17438"/>
                  <a:pt x="22696" y="17438"/>
                </a:cubicBezTo>
                <a:cubicBezTo>
                  <a:pt x="22636" y="17438"/>
                  <a:pt x="22712" y="17407"/>
                  <a:pt x="22771" y="17413"/>
                </a:cubicBezTo>
                <a:cubicBezTo>
                  <a:pt x="22809" y="17417"/>
                  <a:pt x="22845" y="17445"/>
                  <a:pt x="22845" y="17487"/>
                </a:cubicBezTo>
                <a:cubicBezTo>
                  <a:pt x="22845" y="17524"/>
                  <a:pt x="22749" y="17507"/>
                  <a:pt x="22771" y="17537"/>
                </a:cubicBezTo>
                <a:cubicBezTo>
                  <a:pt x="22776" y="17544"/>
                  <a:pt x="22859" y="17551"/>
                  <a:pt x="22870" y="17562"/>
                </a:cubicBezTo>
                <a:cubicBezTo>
                  <a:pt x="22890" y="17582"/>
                  <a:pt x="22891" y="17630"/>
                  <a:pt x="22895" y="17661"/>
                </a:cubicBezTo>
                <a:cubicBezTo>
                  <a:pt x="22847" y="17697"/>
                  <a:pt x="22840" y="17721"/>
                  <a:pt x="22771" y="17711"/>
                </a:cubicBezTo>
                <a:cubicBezTo>
                  <a:pt x="22731" y="17705"/>
                  <a:pt x="22716" y="17689"/>
                  <a:pt x="22671" y="17686"/>
                </a:cubicBezTo>
                <a:cubicBezTo>
                  <a:pt x="22487" y="17676"/>
                  <a:pt x="22245" y="17682"/>
                  <a:pt x="22101" y="17711"/>
                </a:cubicBezTo>
                <a:cubicBezTo>
                  <a:pt x="22074" y="17716"/>
                  <a:pt x="22037" y="17739"/>
                  <a:pt x="22027" y="17735"/>
                </a:cubicBezTo>
                <a:cubicBezTo>
                  <a:pt x="22027" y="17727"/>
                  <a:pt x="22027" y="17719"/>
                  <a:pt x="22027" y="1771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91120" y="5830920"/>
            <a:ext cx="482760" cy="563400"/>
          </a:xfrm>
          <a:custGeom>
            <a:avLst/>
            <a:gdLst/>
            <a:ahLst/>
            <a:rect l="l" t="t" r="r" b="b"/>
            <a:pathLst>
              <a:path w="1340" h="1564">
                <a:moveTo>
                  <a:pt x="16644" y="16520"/>
                </a:moveTo>
                <a:cubicBezTo>
                  <a:pt x="16666" y="16597"/>
                  <a:pt x="16636" y="16547"/>
                  <a:pt x="16694" y="16594"/>
                </a:cubicBezTo>
                <a:cubicBezTo>
                  <a:pt x="16713" y="16567"/>
                  <a:pt x="16725" y="16530"/>
                  <a:pt x="16768" y="16520"/>
                </a:cubicBezTo>
                <a:cubicBezTo>
                  <a:pt x="16825" y="16507"/>
                  <a:pt x="16860" y="16514"/>
                  <a:pt x="16917" y="16495"/>
                </a:cubicBezTo>
                <a:cubicBezTo>
                  <a:pt x="16973" y="16476"/>
                  <a:pt x="17016" y="16454"/>
                  <a:pt x="17066" y="16421"/>
                </a:cubicBezTo>
                <a:cubicBezTo>
                  <a:pt x="17101" y="16398"/>
                  <a:pt x="17152" y="16355"/>
                  <a:pt x="17190" y="16346"/>
                </a:cubicBezTo>
                <a:cubicBezTo>
                  <a:pt x="17265" y="16329"/>
                  <a:pt x="17250" y="16334"/>
                  <a:pt x="17314" y="16297"/>
                </a:cubicBezTo>
                <a:cubicBezTo>
                  <a:pt x="17352" y="16275"/>
                  <a:pt x="17390" y="16274"/>
                  <a:pt x="17438" y="16272"/>
                </a:cubicBezTo>
                <a:cubicBezTo>
                  <a:pt x="17489" y="16270"/>
                  <a:pt x="17494" y="16266"/>
                  <a:pt x="17537" y="16247"/>
                </a:cubicBezTo>
                <a:cubicBezTo>
                  <a:pt x="17578" y="16229"/>
                  <a:pt x="17616" y="16205"/>
                  <a:pt x="17661" y="16197"/>
                </a:cubicBezTo>
                <a:cubicBezTo>
                  <a:pt x="17762" y="16180"/>
                  <a:pt x="17881" y="16197"/>
                  <a:pt x="17983" y="16197"/>
                </a:cubicBezTo>
                <a:cubicBezTo>
                  <a:pt x="17934" y="16204"/>
                  <a:pt x="17943" y="16204"/>
                  <a:pt x="17909" y="16222"/>
                </a:cubicBezTo>
                <a:cubicBezTo>
                  <a:pt x="17869" y="16243"/>
                  <a:pt x="17862" y="16256"/>
                  <a:pt x="17835" y="16272"/>
                </a:cubicBezTo>
                <a:cubicBezTo>
                  <a:pt x="17797" y="16295"/>
                  <a:pt x="17744" y="16301"/>
                  <a:pt x="17711" y="16321"/>
                </a:cubicBezTo>
                <a:cubicBezTo>
                  <a:pt x="17675" y="16343"/>
                  <a:pt x="17643" y="16371"/>
                  <a:pt x="17611" y="16396"/>
                </a:cubicBezTo>
                <a:cubicBezTo>
                  <a:pt x="17586" y="16415"/>
                  <a:pt x="17573" y="16417"/>
                  <a:pt x="17537" y="16446"/>
                </a:cubicBezTo>
                <a:cubicBezTo>
                  <a:pt x="17500" y="16476"/>
                  <a:pt x="17471" y="16492"/>
                  <a:pt x="17438" y="16520"/>
                </a:cubicBezTo>
                <a:cubicBezTo>
                  <a:pt x="17387" y="16563"/>
                  <a:pt x="17343" y="16606"/>
                  <a:pt x="17289" y="16644"/>
                </a:cubicBezTo>
                <a:cubicBezTo>
                  <a:pt x="17236" y="16681"/>
                  <a:pt x="17209" y="16732"/>
                  <a:pt x="17165" y="16768"/>
                </a:cubicBezTo>
                <a:cubicBezTo>
                  <a:pt x="17140" y="16789"/>
                  <a:pt x="17134" y="16787"/>
                  <a:pt x="17115" y="16818"/>
                </a:cubicBezTo>
                <a:cubicBezTo>
                  <a:pt x="17148" y="16802"/>
                  <a:pt x="17132" y="16810"/>
                  <a:pt x="17165" y="16793"/>
                </a:cubicBezTo>
                <a:cubicBezTo>
                  <a:pt x="17209" y="16771"/>
                  <a:pt x="17250" y="16762"/>
                  <a:pt x="17289" y="16743"/>
                </a:cubicBezTo>
                <a:cubicBezTo>
                  <a:pt x="17329" y="16723"/>
                  <a:pt x="17335" y="16714"/>
                  <a:pt x="17363" y="16718"/>
                </a:cubicBezTo>
                <a:cubicBezTo>
                  <a:pt x="17347" y="16734"/>
                  <a:pt x="17322" y="16767"/>
                  <a:pt x="17289" y="16793"/>
                </a:cubicBezTo>
                <a:cubicBezTo>
                  <a:pt x="17233" y="16836"/>
                  <a:pt x="17199" y="16882"/>
                  <a:pt x="17140" y="16917"/>
                </a:cubicBezTo>
                <a:cubicBezTo>
                  <a:pt x="17076" y="16954"/>
                  <a:pt x="17014" y="16985"/>
                  <a:pt x="16942" y="16991"/>
                </a:cubicBezTo>
                <a:cubicBezTo>
                  <a:pt x="16934" y="16991"/>
                  <a:pt x="16925" y="16991"/>
                  <a:pt x="16917" y="16991"/>
                </a:cubicBezTo>
                <a:cubicBezTo>
                  <a:pt x="16986" y="16985"/>
                  <a:pt x="17025" y="16956"/>
                  <a:pt x="17090" y="16942"/>
                </a:cubicBezTo>
                <a:cubicBezTo>
                  <a:pt x="17122" y="16935"/>
                  <a:pt x="17206" y="16900"/>
                  <a:pt x="17239" y="16917"/>
                </a:cubicBezTo>
                <a:cubicBezTo>
                  <a:pt x="17239" y="16925"/>
                  <a:pt x="17239" y="16934"/>
                  <a:pt x="17239" y="16942"/>
                </a:cubicBezTo>
                <a:cubicBezTo>
                  <a:pt x="17201" y="16975"/>
                  <a:pt x="17149" y="17011"/>
                  <a:pt x="17090" y="17041"/>
                </a:cubicBezTo>
                <a:cubicBezTo>
                  <a:pt x="17039" y="17067"/>
                  <a:pt x="16943" y="17135"/>
                  <a:pt x="16917" y="17190"/>
                </a:cubicBezTo>
                <a:cubicBezTo>
                  <a:pt x="16892" y="17214"/>
                  <a:pt x="16884" y="17222"/>
                  <a:pt x="16917" y="17239"/>
                </a:cubicBezTo>
                <a:cubicBezTo>
                  <a:pt x="16982" y="17215"/>
                  <a:pt x="17050" y="17208"/>
                  <a:pt x="17115" y="17190"/>
                </a:cubicBezTo>
                <a:cubicBezTo>
                  <a:pt x="17180" y="17171"/>
                  <a:pt x="17173" y="17172"/>
                  <a:pt x="17239" y="17165"/>
                </a:cubicBezTo>
                <a:cubicBezTo>
                  <a:pt x="17193" y="17188"/>
                  <a:pt x="17141" y="17213"/>
                  <a:pt x="17090" y="17239"/>
                </a:cubicBezTo>
                <a:cubicBezTo>
                  <a:pt x="17040" y="17264"/>
                  <a:pt x="16990" y="17299"/>
                  <a:pt x="16942" y="17314"/>
                </a:cubicBezTo>
                <a:cubicBezTo>
                  <a:pt x="16934" y="17314"/>
                  <a:pt x="16925" y="17314"/>
                  <a:pt x="16917" y="17314"/>
                </a:cubicBezTo>
                <a:cubicBezTo>
                  <a:pt x="16976" y="17307"/>
                  <a:pt x="17009" y="17286"/>
                  <a:pt x="17066" y="17264"/>
                </a:cubicBezTo>
                <a:cubicBezTo>
                  <a:pt x="17143" y="17234"/>
                  <a:pt x="17209" y="17239"/>
                  <a:pt x="17289" y="17239"/>
                </a:cubicBezTo>
                <a:cubicBezTo>
                  <a:pt x="17297" y="17239"/>
                  <a:pt x="17306" y="17239"/>
                  <a:pt x="17314" y="17239"/>
                </a:cubicBezTo>
                <a:cubicBezTo>
                  <a:pt x="17276" y="17260"/>
                  <a:pt x="17234" y="17290"/>
                  <a:pt x="17190" y="17314"/>
                </a:cubicBezTo>
                <a:cubicBezTo>
                  <a:pt x="17125" y="17350"/>
                  <a:pt x="17103" y="17382"/>
                  <a:pt x="17041" y="17413"/>
                </a:cubicBezTo>
                <a:cubicBezTo>
                  <a:pt x="17101" y="17396"/>
                  <a:pt x="17148" y="17388"/>
                  <a:pt x="17214" y="17388"/>
                </a:cubicBezTo>
                <a:cubicBezTo>
                  <a:pt x="17255" y="17388"/>
                  <a:pt x="17297" y="17388"/>
                  <a:pt x="17338" y="17388"/>
                </a:cubicBezTo>
                <a:cubicBezTo>
                  <a:pt x="17311" y="17427"/>
                  <a:pt x="17288" y="17455"/>
                  <a:pt x="17239" y="17487"/>
                </a:cubicBezTo>
                <a:cubicBezTo>
                  <a:pt x="17192" y="17517"/>
                  <a:pt x="17119" y="17527"/>
                  <a:pt x="17066" y="17537"/>
                </a:cubicBezTo>
                <a:cubicBezTo>
                  <a:pt x="17058" y="17537"/>
                  <a:pt x="17049" y="17537"/>
                  <a:pt x="17041" y="17537"/>
                </a:cubicBezTo>
                <a:cubicBezTo>
                  <a:pt x="17102" y="17530"/>
                  <a:pt x="17154" y="17515"/>
                  <a:pt x="17214" y="17512"/>
                </a:cubicBezTo>
                <a:cubicBezTo>
                  <a:pt x="17239" y="17511"/>
                  <a:pt x="17264" y="17512"/>
                  <a:pt x="17289" y="17512"/>
                </a:cubicBezTo>
                <a:cubicBezTo>
                  <a:pt x="17250" y="17546"/>
                  <a:pt x="17219" y="17599"/>
                  <a:pt x="17165" y="17611"/>
                </a:cubicBezTo>
                <a:cubicBezTo>
                  <a:pt x="17093" y="17626"/>
                  <a:pt x="17015" y="17657"/>
                  <a:pt x="16942" y="17661"/>
                </a:cubicBezTo>
                <a:cubicBezTo>
                  <a:pt x="16917" y="17661"/>
                  <a:pt x="16909" y="17661"/>
                  <a:pt x="16892" y="17661"/>
                </a:cubicBezTo>
                <a:cubicBezTo>
                  <a:pt x="16974" y="17661"/>
                  <a:pt x="17046" y="17659"/>
                  <a:pt x="17090" y="17686"/>
                </a:cubicBezTo>
                <a:cubicBezTo>
                  <a:pt x="17049" y="17700"/>
                  <a:pt x="17009" y="17697"/>
                  <a:pt x="16966" y="17711"/>
                </a:cubicBezTo>
                <a:cubicBezTo>
                  <a:pt x="16944" y="17733"/>
                  <a:pt x="16939" y="17741"/>
                  <a:pt x="16917" y="17735"/>
                </a:cubicBezTo>
                <a:cubicBezTo>
                  <a:pt x="16959" y="17756"/>
                  <a:pt x="16945" y="17757"/>
                  <a:pt x="17016" y="17760"/>
                </a:cubicBezTo>
                <a:cubicBezTo>
                  <a:pt x="17153" y="17766"/>
                  <a:pt x="17292" y="17755"/>
                  <a:pt x="17413" y="17735"/>
                </a:cubicBezTo>
                <a:cubicBezTo>
                  <a:pt x="17492" y="17722"/>
                  <a:pt x="17595" y="17752"/>
                  <a:pt x="17636" y="17760"/>
                </a:cubicBezTo>
                <a:cubicBezTo>
                  <a:pt x="17661" y="17760"/>
                  <a:pt x="17669" y="17760"/>
                  <a:pt x="17686" y="1776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403280" y="2060640"/>
            <a:ext cx="2664000" cy="865080"/>
            <a:chOff x="1403280" y="2060640"/>
            <a:chExt cx="2664000" cy="865080"/>
          </a:xfrm>
        </p:grpSpPr>
        <p:sp>
          <p:nvSpPr>
            <p:cNvPr id="219" name=""/>
            <p:cNvSpPr/>
            <p:nvPr/>
          </p:nvSpPr>
          <p:spPr>
            <a:xfrm>
              <a:off x="1403280" y="2060640"/>
              <a:ext cx="229788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16120" y="222480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72720" y="20606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0000" y="2390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47280" y="226692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56800" y="210132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13400" y="2390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94000" y="239040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9320" y="206064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403280" y="3357720"/>
            <a:ext cx="2664000" cy="865080"/>
            <a:chOff x="1403280" y="3357720"/>
            <a:chExt cx="2664000" cy="865080"/>
          </a:xfrm>
        </p:grpSpPr>
        <p:sp>
          <p:nvSpPr>
            <p:cNvPr id="229" name=""/>
            <p:cNvSpPr/>
            <p:nvPr/>
          </p:nvSpPr>
          <p:spPr>
            <a:xfrm>
              <a:off x="1403280" y="3357720"/>
              <a:ext cx="229788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6120" y="352188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72720" y="335772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80000" y="368748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7280" y="356400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56800" y="339840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3400" y="368748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94000" y="368748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49320" y="335772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403280" y="4581360"/>
            <a:ext cx="2664000" cy="865440"/>
            <a:chOff x="1403280" y="4581360"/>
            <a:chExt cx="2664000" cy="865440"/>
          </a:xfrm>
        </p:grpSpPr>
        <p:sp>
          <p:nvSpPr>
            <p:cNvPr id="239" name=""/>
            <p:cNvSpPr/>
            <p:nvPr/>
          </p:nvSpPr>
          <p:spPr>
            <a:xfrm>
              <a:off x="1403280" y="4581360"/>
              <a:ext cx="229788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16120" y="4745880"/>
              <a:ext cx="992160" cy="7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72720" y="4581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0000" y="4911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47280" y="4787640"/>
              <a:ext cx="887400" cy="65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56800" y="4622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3400" y="4911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94000" y="4911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49320" y="458136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403280" y="5805360"/>
            <a:ext cx="2664000" cy="865440"/>
            <a:chOff x="1403280" y="5805360"/>
            <a:chExt cx="2664000" cy="865440"/>
          </a:xfrm>
        </p:grpSpPr>
        <p:sp>
          <p:nvSpPr>
            <p:cNvPr id="249" name=""/>
            <p:cNvSpPr/>
            <p:nvPr/>
          </p:nvSpPr>
          <p:spPr>
            <a:xfrm>
              <a:off x="1403280" y="5805360"/>
              <a:ext cx="229788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6120" y="5969880"/>
              <a:ext cx="992160" cy="7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72720" y="5805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0000" y="6135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47280" y="6011640"/>
              <a:ext cx="887400" cy="65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6800" y="5846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3400" y="6135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4000" y="6135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49320" y="580536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012000" y="1773360"/>
            <a:ext cx="2663280" cy="865080"/>
            <a:chOff x="6012000" y="1773360"/>
            <a:chExt cx="2663280" cy="865080"/>
          </a:xfrm>
        </p:grpSpPr>
        <p:sp>
          <p:nvSpPr>
            <p:cNvPr id="259" name=""/>
            <p:cNvSpPr/>
            <p:nvPr/>
          </p:nvSpPr>
          <p:spPr>
            <a:xfrm>
              <a:off x="6012000" y="177336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24840" y="193752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81440" y="1773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88360" y="2103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55640" y="197964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65520" y="1814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22120" y="2103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02720" y="2103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57680" y="177336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12000" y="2997360"/>
            <a:ext cx="2663280" cy="865080"/>
            <a:chOff x="6012000" y="2997360"/>
            <a:chExt cx="2663280" cy="865080"/>
          </a:xfrm>
        </p:grpSpPr>
        <p:sp>
          <p:nvSpPr>
            <p:cNvPr id="269" name=""/>
            <p:cNvSpPr/>
            <p:nvPr/>
          </p:nvSpPr>
          <p:spPr>
            <a:xfrm>
              <a:off x="6012000" y="299736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840" y="316152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81440" y="2997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360" y="3327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55640" y="320364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65520" y="3038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22120" y="3327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2720" y="3327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57680" y="299736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12000" y="4292640"/>
            <a:ext cx="2663280" cy="865080"/>
            <a:chOff x="6012000" y="4292640"/>
            <a:chExt cx="2663280" cy="865080"/>
          </a:xfrm>
        </p:grpSpPr>
        <p:sp>
          <p:nvSpPr>
            <p:cNvPr id="279" name=""/>
            <p:cNvSpPr/>
            <p:nvPr/>
          </p:nvSpPr>
          <p:spPr>
            <a:xfrm>
              <a:off x="6012000" y="429264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840" y="445680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1440" y="42926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88360" y="4622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55640" y="449892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65520" y="433332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22120" y="4622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02720" y="462240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57680" y="429264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12000" y="5661000"/>
            <a:ext cx="2663280" cy="865080"/>
            <a:chOff x="6012000" y="5661000"/>
            <a:chExt cx="2663280" cy="865080"/>
          </a:xfrm>
        </p:grpSpPr>
        <p:sp>
          <p:nvSpPr>
            <p:cNvPr id="289" name=""/>
            <p:cNvSpPr/>
            <p:nvPr/>
          </p:nvSpPr>
          <p:spPr>
            <a:xfrm>
              <a:off x="6012000" y="566100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840" y="582516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1440" y="566100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88360" y="599076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55640" y="586728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5520" y="570168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22120" y="599076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02720" y="599076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57680" y="566100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808600" y="5361120"/>
            <a:ext cx="2305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49800" y="5164200"/>
            <a:ext cx="2305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23080" y="3998880"/>
            <a:ext cx="2305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35400" y="5740560"/>
            <a:ext cx="8654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venn diagrams to find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rmally we will deal with probability inste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9280" y="2781360"/>
            <a:ext cx="417672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2852640"/>
            <a:ext cx="180036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03640" y="2852640"/>
            <a:ext cx="180000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40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67280" y="3357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3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08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5928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4149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27640" y="2781360"/>
            <a:ext cx="93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B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´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B´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2000" y="4653000"/>
            <a:ext cx="576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 ∩ B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 u B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 u B´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 ∩ B´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venn diagrams to find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tually exclusive: if one happens, the other cann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tually exhaustive: these events cover all possibil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2637000"/>
            <a:ext cx="266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80000" y="4508640"/>
            <a:ext cx="2664000" cy="15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4508640"/>
            <a:ext cx="2663640" cy="15843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4724280"/>
            <a:ext cx="1008000" cy="100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17236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19640" y="602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956720" y="59500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40360" y="4724280"/>
            <a:ext cx="1008000" cy="100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0000" y="4581360"/>
            <a:ext cx="1008000" cy="100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4508640"/>
            <a:ext cx="1295280" cy="100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2000" y="5013360"/>
            <a:ext cx="1008000" cy="100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48480" y="2711520"/>
            <a:ext cx="1008000" cy="1009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67520" y="2676600"/>
            <a:ext cx="1008000" cy="1009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55960" y="5724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55000" y="556560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3:26:58Z</dcterms:created>
  <dc:creator>N Holden</dc:creator>
  <dc:description/>
  <dc:language>en-US</dc:language>
  <cp:lastModifiedBy>N Holden</cp:lastModifiedBy>
  <dcterms:modified xsi:type="dcterms:W3CDTF">2008-12-17T11:45:21Z</dcterms:modified>
  <cp:revision>10</cp:revision>
  <dc:subject/>
  <dc:title>L.O. Use venn diagrams to find probability</dc:title>
</cp:coreProperties>
</file>